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54A8-208E-4609-B688-C43D970F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ECD5-7FF8-4961-804B-51075E27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B0FA-E33C-4D05-A628-C303B871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A269-8F73-47BF-96F9-E66E677A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E52-3335-4C66-9364-F0C8C4A0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955-FDBF-4D2B-BBB4-CCE08660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B53-1B83-4429-9BB9-7125353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91B5-28EB-4A4B-81F6-B83EA09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5374-F08D-4F99-B3DD-B8518AE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D69B-C03C-4EAC-A2C6-21FC0DC0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AC5-1CA8-4B9A-BACD-B889B82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0199-519A-47F4-B2B5-464709C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8CD2-293A-4247-97EE-284FB75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9AB6-4A83-4EF6-ADEB-741B5EE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144-08B5-44FA-BDF1-B2334D39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971D-294E-4AB0-BD3B-6470080A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9B6-BB1D-43BB-A662-A66C79D1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4DE37-A5C4-449A-A9B0-7803DB8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4E4E0-6234-4D71-8D47-A8A1726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978F4-C4E8-48C6-91FF-58CF55F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FB0F2-0D65-4729-92A0-03E72B9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996C3-55E3-4FBB-9DB0-B4D3F222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366E-4CBF-4DA2-B721-0C66775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7D4AA-84B1-4B69-AB00-93705A4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384B5-1C64-4E91-A2D2-267CE44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A12E7-CE84-444C-B305-885F05C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602DE-83D8-459C-8327-9333ABC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23A93-9910-4FE7-A165-B494E342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AB2CE-CFB2-48A4-953E-A3E31417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D0575-9E77-4442-B1C6-338C6231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09BE7-FB16-49BA-917C-144511FA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F8685-FE8E-4C47-8A39-DDE968C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92A7C-4A36-47BD-B979-A171D0C4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BE02-3021-4FC8-A60B-F9932F4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EC4AA-B45D-417E-B8E5-B272B36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E4306-02EF-4D9E-9CF5-E0F3D800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98356-9A06-4D6E-9782-45C23C9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7C7AF-B3F0-4F43-8DF7-6332694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BFF62-86EF-4340-B423-26FFDED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E911F-48F5-4DB5-B7AD-490A2EA1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A2DAE-55A3-496C-8FB3-41B8071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8F33C-4E2B-41BF-97A3-817E5B93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6A7B1-E5A8-4A7B-8C20-CAE76B03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A3D98-79F2-4892-B9D2-9A93B3E7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B7CC-DECD-433B-B88C-8A0A3558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8AD74-162D-4562-A4C8-E9A7508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E65CB-BBBC-444A-8047-C58908A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2CA99-664D-45E2-BDB4-9460C52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DFD91-FAC7-4F8A-8892-0804E0E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DB470-E586-4BF4-8800-D559799C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00ECB-87D9-418D-97E3-ED8279C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AD1CD-850E-410D-993B-D30BFCD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CF49A-0E9C-48F9-891F-B07D95F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B6672-5ECF-48B4-8248-D8F2E4D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61539-710F-437A-8840-6C331969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A1F7-4A73-4850-BBE3-16FB558A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16901-B87D-483A-A946-1E352E5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9C69D-2E04-4D57-BEEB-6EE2C5C3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B01D0-D159-4B16-B50A-DD991147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BA62D-0713-4344-B793-28B7B18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F0158-DC7F-48FC-AE6A-9261D86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568BE-5E2A-4303-BAB5-84931E5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BE719-658E-47D6-A453-0715C5F4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1A18B-7D38-48C4-8371-D54AE93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E7B3B-249D-4AFD-ADBF-590155A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F5CE5-0A13-4918-BCDB-D9B9014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6D9B-9C0A-4AEF-8AFC-027FB61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C7DD6-0578-445C-BBA1-79EFACE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F1F69-B6CF-45E0-A99D-99486B59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17FD3-D68A-4744-8726-809879B0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0B97-4EA7-4B28-8C56-603DF521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769BB-AFBD-4EAF-B869-424FCBC1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E335-DBA6-4EB8-8FB7-901E9D0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0473-2B91-49BB-96BE-B4C4F21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2475A-B592-4F4C-A918-F9B4EF3F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C47A-BBD0-4041-BB4D-37030937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B7B64-1ECA-44D9-A0D9-E62D7AA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C064-ADA1-4696-A777-8FFB7A1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035B-270F-49AD-B36E-5961A91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7FC6-680D-445F-99A3-03BA21B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C015-15C5-4D9B-9B3B-66E11036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2DA5-0B7F-4FC9-BCBE-E77DE95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8597-9678-4413-A200-A7850398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2B39-5BB4-4AEE-A93F-F338476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15D-4087-4E87-AED2-F3CE440848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71A-DE32-4ED6-9D38-FDCCF20F78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D398-DCD6-4196-906C-34314FAC91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C304-6924-44C4-BC0D-08265A5A0C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B4D8-256B-4C9F-A17B-BADADD747E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215D-FA0E-4DA6-866A-8A35462BA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141-73B4-47A9-8D29-7E48FE949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19440" y="3166920"/>
            <a:ext cx="370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ŢII LINIA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Matematica mai înseamnă şi altceva în afară de numere?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08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diferenţa între funcţie şi corespondenţă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um rezolvăm ecuaţiile şi inecuaţiile cu ajutorul funcţiilor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modul de a caracteriza o funcţie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6240" y="1600200"/>
            <a:ext cx="403056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11280" y="2276640"/>
            <a:ext cx="1439640" cy="23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133720"/>
            <a:ext cx="1224000" cy="26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2205000"/>
            <a:ext cx="129564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14172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3429000"/>
            <a:ext cx="187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476360" y="3357720"/>
            <a:ext cx="1800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2349360"/>
            <a:ext cx="1008000" cy="2376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724360" y="306864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68640"/>
            <a:ext cx="172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724360" y="3860280"/>
            <a:ext cx="1800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7280" y="3644640"/>
            <a:ext cx="1656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200" spc="-1" strike="noStrike">
                <a:solidFill>
                  <a:srgbClr val="e5e5ff"/>
                </a:solidFill>
                <a:latin typeface="Garamond"/>
              </a:rPr>
              <a:t>La final vom şti:</a:t>
            </a:r>
            <a:endParaRPr b="1" lang="en-US" sz="6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e este funcţi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rin ce se recunosc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se calculează funcţiile în anumite puncte fix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 clasifică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terminăm funcţia a cărui grafic trece  prin două punct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aflăm coordonatele unui punct care se află pe graficul unei funcţi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are sunt paşii pe care trebuie să-i parcurgem pentru a reprezenta grafic o funcţi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6360" y="170028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924280"/>
            <a:ext cx="208764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uncţi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/>
          <p:nvPr/>
        </p:nvSpPr>
        <p:spPr>
          <a:xfrm rot="16511400">
            <a:off x="4784400" y="365112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/>
          <p:nvPr/>
        </p:nvSpPr>
        <p:spPr>
          <a:xfrm rot="400200">
            <a:off x="5725800" y="2708280"/>
            <a:ext cx="79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44370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respondenţă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 rot="2915400">
            <a:off x="6956640" y="3354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Imaginea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funcţiei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46000" y="30430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Graficul unei funcţii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0764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EXERCIȚII PREGĂTITOAR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e5e5ff"/>
                </a:solidFill>
                <a:latin typeface="Garamond"/>
              </a:rPr>
              <a:t>În perspectiva introducerii noțiunii de funcți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Puneţi într-o corespondenţă elementele din următoarele mulţimi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47840" y="3367080"/>
                <a:ext cx="45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908000" y="2060640"/>
            <a:ext cx="2592720" cy="381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332000" y="1989000"/>
                <a:ext cx="446400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07220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/>
          <p:nvPr/>
        </p:nvSpPr>
        <p:spPr>
          <a:xfrm>
            <a:off x="304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843280" y="2997360"/>
                <a:ext cx="10652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940360" y="2205000"/>
            <a:ext cx="2160720" cy="374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53200" y="2781360"/>
                <a:ext cx="122400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Reprezentaţi printr-o diagramă Venn-Euler mulţimile D24, D36 şi D64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1628640"/>
            <a:ext cx="338472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628640"/>
            <a:ext cx="374328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213000"/>
            <a:ext cx="3528720" cy="29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632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Reprezentați într-un sistem de axe ortogonale următoarele puncte: A(1;5), B(-2;3), C(-5;-7), D(2;-4), E(4;0), F(0;-2)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97880" y="2164320"/>
            <a:ext cx="814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ie punctele A(-1,2), B(2,2), C(3,-1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prezentaţi în sistemul de axe Xo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ele trei punct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lculaţi lungimile segmentelor AB, BC, A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triunghiul ABC dreptunghic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7:13:06Z</dcterms:created>
  <dc:creator>Carmen</dc:creator>
  <dc:description/>
  <dc:language>en-US</dc:language>
  <cp:lastModifiedBy>xp</cp:lastModifiedBy>
  <dcterms:modified xsi:type="dcterms:W3CDTF">2010-11-21T12:03:09Z</dcterms:modified>
  <cp:revision>15</cp:revision>
  <dc:subject/>
  <dc:title>Exerciții pregătitoare</dc:title>
</cp:coreProperties>
</file>