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70A6-E644-4EA5-A74E-FCE78743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0DB9-9079-4FB5-B9AE-AC6EAF4B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AFCC-86EC-4B75-BA1C-F095EE7E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B846-7062-4A84-BDA7-14BC2122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A926-E7A8-4D9F-BE92-D53F734C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EEB-70C0-4A69-BE81-76CAAC8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A226-7A11-4C0A-B03D-999AEAA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F91C-1679-42BE-8DE0-434339F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2CD5-82F6-4184-831D-DF29BF3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774-1E8E-46B6-A301-7F66671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7646-3A4F-4095-A1C5-2CEEE86B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BECF-68FB-40B7-BE92-6B6E4E29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A98-22A1-4CB5-B78E-49B8FA9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FBB-60DF-4AF9-9D3A-B6C93FC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DDBF-749F-472C-AD49-4BA2F23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0A2C-99A6-49D8-B280-16715C9F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5761-72A4-411E-93BA-ACE4DEF9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65B41-1897-4138-A025-F6E307F4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06BE9-53C6-4FB9-AA4E-71B6149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5D1F1-FC73-4DC7-99A4-08EA012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E504E-0E3A-4020-AE4F-9074372F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D51C4-5715-4894-B337-5F77830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33B7-436D-49DE-959E-7EC71057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48B94-C2FC-4DB1-A507-1FE6951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0F149-C018-41F0-9E71-8195413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69CFD-DFC8-4A0D-A062-78422DA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0E1DB-51FC-4490-BE67-563ABBF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ECACA-3801-40C0-9796-1AF0258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8D9E5-C9C8-4A75-989A-9EA689BC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F2DF5-CF13-4888-BA6A-3E16E017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51BE7-A087-4952-9ECC-B4EE913B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0F361-8B35-4B71-8B63-DE4912C6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DBB79-420F-42A4-BA82-A329123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FD35-B6AD-4DCE-BC1A-6F1BDDE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081A9-8080-4EF3-90A5-168E0398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FD319-6ED3-47E1-8D4B-33B493B4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0D537-BB10-4616-A34F-A222C3D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5464B-CE25-46DB-8F9E-6E6C0B7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2BD30-CEFF-4139-81B7-2CE7B14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4946F-9E95-4092-9148-849478F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D770F-B9AB-420B-A0CB-C47C55E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08D08-8BA1-4689-89FC-B506DF58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D26B5-38A2-46AB-B968-EC8B8D5E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CC5B2-B3F6-4BAA-9429-723F09B3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519B-5E1B-4C4E-B49F-2A0977E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A59B6-1E01-42F4-A693-961D748D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C017C-F903-4075-8307-4D67B956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CFA89-E405-49E5-8554-CE52DA4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FADB4-809F-4C43-A926-AA0AF58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2D5AD-B9B7-4AFC-B1AD-0728873F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14096-6152-4D7E-9E57-1078B5D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2BA97-559B-4B39-A143-32E3F4D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462AF-845E-4C38-B19A-915F647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28541-E742-4D2A-A7EC-E640324C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8C5CA-0E48-44B3-B247-5904FB85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D3CC-91DC-43D7-A5A9-5D8CA65E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4627B-520C-44A1-87D0-C3023A22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BBCBD-B148-4118-907A-D6D1751F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891A9-8543-4F13-996B-7304EC9A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8337F-CCA4-4EB1-8A50-9672F70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73B70-68DA-4FB0-B559-410F97A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6DED4-FB9B-4E6B-9478-87D4127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6BE47-6576-4B63-B7B9-4CFC27F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64FB6-C29E-4C00-8007-0F1CA8C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6D390-353B-4BAE-9686-B9BBB2B1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70E28-73FE-431E-8D13-BA7C0981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D394-3538-4C43-80F7-944FF7ED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18485-5CAB-4A81-8905-5E8D312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4153D-7AC3-46E4-A280-158739B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46CA7-E259-4D06-A5C0-8FA4AD5F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0FAD-C158-44C2-8156-870FBB52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9134A-3C1E-4CD1-AD49-FAA2E779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AC67-63F2-4A54-B4F9-9331D67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0EEB9-2A40-40D6-BBEA-057439D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08DB-611A-4E5A-A6A3-56874C8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09E1B-3EA7-4B42-BDA1-ACE70C3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D2DEC-7F85-41AE-80E1-6B71F06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4BAE-2EC1-494A-BF6F-9BD6BD6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9B548-859F-4047-8130-15604B2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7D62E-990E-41C6-845D-14330D9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0A0C3-606B-49BA-9951-228B9B3B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FC57-04E3-4495-AE74-D730E064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6D84-F8AB-4C21-ADA5-6598597D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B147-1C49-4089-9BB0-E8EDD20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9E77-43A9-4B14-84C1-1AA9DBB67D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A501-59EE-4BE8-BCAE-D201990CC8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0AE4-E714-4673-9780-1978846A83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93B-68E9-4500-934E-BE35B12628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8595-822E-4AD4-ADD7-3DD53DB405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1D49-86FF-4A74-A7C6-BA8CA8E8E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AB1A-4BB8-4FF7-BD72-5D2BFD7AB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19440" y="3166920"/>
            <a:ext cx="370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ŢII LINIAR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Matematica mai înseamnă şi altceva în afară de numere?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08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diferenţa între funcţie şi corespondenţă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um rezolvăm ecuaţiile şi inecuaţiile cu ajutorul funcţiilor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modul de a caracteriza o funcţie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6240" y="1600200"/>
            <a:ext cx="403056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11280" y="2276640"/>
            <a:ext cx="1439640" cy="23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2133720"/>
            <a:ext cx="1224000" cy="26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2205000"/>
            <a:ext cx="1295640" cy="230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141720"/>
            <a:ext cx="18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/>
          <p:nvPr/>
        </p:nvSpPr>
        <p:spPr>
          <a:xfrm>
            <a:off x="1476360" y="3429000"/>
            <a:ext cx="187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476360" y="3357720"/>
            <a:ext cx="1800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2349360"/>
            <a:ext cx="1008000" cy="2376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/>
          <p:nvPr/>
        </p:nvSpPr>
        <p:spPr>
          <a:xfrm>
            <a:off x="5724360" y="306864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068640"/>
            <a:ext cx="172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724360" y="3860280"/>
            <a:ext cx="1800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7280" y="3644640"/>
            <a:ext cx="165600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200" spc="-1" strike="noStrike">
                <a:solidFill>
                  <a:srgbClr val="e5e5ff"/>
                </a:solidFill>
                <a:latin typeface="Garamond"/>
              </a:rPr>
              <a:t>La final vom şti:</a:t>
            </a:r>
            <a:endParaRPr b="1" lang="en-US" sz="6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e este funcţi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Prin ce se recunosc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se calculează funcţiile în anumite puncte fix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 clasifică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terminăm funcţia a cărui grafic trece  prin două punct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aflăm coordonatele unui punct care se află pe graficul unei funcţi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are sunt paşii pe care trebuie să-i parcurgem pentru a reprezenta grafic o funcţi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6360" y="170028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2924280"/>
            <a:ext cx="2087640" cy="1728720"/>
          </a:xfrm>
          <a:prstGeom prst="rect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uncţi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/>
          <p:nvPr/>
        </p:nvSpPr>
        <p:spPr>
          <a:xfrm rot="16511400">
            <a:off x="4784400" y="365112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/>
          <p:nvPr/>
        </p:nvSpPr>
        <p:spPr>
          <a:xfrm rot="400200">
            <a:off x="5725800" y="2708280"/>
            <a:ext cx="79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44370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respondenţă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/>
          <p:nvPr/>
        </p:nvSpPr>
        <p:spPr>
          <a:xfrm rot="2915400">
            <a:off x="6956640" y="335484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Imaginea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funcţiei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46000" y="304308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Graficul unei funcţii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0764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EXERCIȚII PREGĂTITOAR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e5e5ff"/>
                </a:solidFill>
                <a:latin typeface="Garamond"/>
              </a:rPr>
              <a:t>În perspectiva introducerii noțiunii de funcți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Puneţi într-o corespondenţă elementele din următoarele mulţimi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247840" y="3367080"/>
                <a:ext cx="457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908000" y="2060640"/>
            <a:ext cx="2592720" cy="381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332000" y="1989000"/>
                <a:ext cx="446400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07220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/>
          <p:nvPr/>
        </p:nvSpPr>
        <p:spPr>
          <a:xfrm>
            <a:off x="3040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843280" y="2997360"/>
                <a:ext cx="10652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940360" y="2205000"/>
            <a:ext cx="2160720" cy="374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253200" y="2781360"/>
                <a:ext cx="122400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Reprezentaţi printr-o diagramă Venn-Euler mulţimile D24, D36 şi D64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1628640"/>
            <a:ext cx="338472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628640"/>
            <a:ext cx="374328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3213000"/>
            <a:ext cx="3528720" cy="29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632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Reprezentați într-un sistem de axe ortogonale următoarele puncte: A(1;5), B(-2;3), C(-5;-7), D(2;-4), E(4;0), F(0;-2)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97880" y="2164320"/>
            <a:ext cx="814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Fie punctele A(-1,2), B(2,2), C(3,-1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prezentaţi în sistemul de axe Xo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ele trei punct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alculaţi lungimile segmentelor AB, BC, A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triunghiul ABC dreptunghic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7:13:06Z</dcterms:created>
  <dc:creator>Carmen</dc:creator>
  <dc:description/>
  <dc:language>en-US</dc:language>
  <cp:lastModifiedBy>xp</cp:lastModifiedBy>
  <dcterms:modified xsi:type="dcterms:W3CDTF">2010-11-21T12:03:09Z</dcterms:modified>
  <cp:revision>15</cp:revision>
  <dc:subject/>
  <dc:title>Exerciții pregătitoare</dc:title>
</cp:coreProperties>
</file>