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61885-19F8-4FA4-9660-647933D7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0D63E-84A4-49AD-82BE-5D06DD0D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40A55-31D1-4DBC-A8C0-3DA9CB8D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E4421-9499-4EFD-9577-64B24387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2AD8-9661-4C74-A734-7429E074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5E49-92B7-4D43-B0CF-05169DBE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4B8F-F289-47B5-825B-7A63B2D6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C4D6-14FE-430E-8E07-00B84254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E08E-375A-44D3-9A89-57AC6395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3BFF-699D-49FA-A960-0615E495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1D8A-5A80-4D8C-BD31-810B57B3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9D535-7A33-4404-8000-EEF495FC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1D98-C365-4AD9-BA4D-CAB628FB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B0F8-7730-48D5-8A31-05FCE42E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2219-1723-4176-B42E-0A8D5945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5C7E-F8BA-4BA6-A5BD-9A8C1B8B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9F4E-F0E6-485B-BB21-90FE9D99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27CB57-F172-4697-8D93-F9062E8E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BEA63B-700F-470B-8B3D-A82796A4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942F2-0344-4E01-9159-31C6ECD2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8946DF-CED7-490D-A835-E8D8CC1D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1A6888-B5F8-4DA3-AEF0-D82158EB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79B51-884A-4015-9E5F-013C8D86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E68AC9-CAEF-4B80-80E1-99397017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8022A3-1E50-4BBB-BCFB-CB9DDD8B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23EE19-E7FA-471A-9688-0CB0450A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2E5847-93E9-4C59-A83C-FFD26126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969334-C895-4CD6-8428-F29CAA96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AF8695-698F-4C28-836A-565BDF14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3BAD4-05D8-46BF-8C28-4933C0CCD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42FE5A-D4DC-4B88-AAC8-6DF6B8CD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75D242-1993-4ADD-9801-CBF42383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9231AD-D2F5-4346-A0AE-96FC077A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6E3C9-4458-4CD2-88EA-4EBACC8D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28B0B6-AA6C-419A-9B8A-8F9C8E06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AFFF04-B888-4FA6-A1EC-15605D57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D62A36-E1A3-4064-AA14-06E1DD55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D35C13-DAD2-413D-AA7B-838B75CD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D343D1-A6AC-46CC-B279-CD5C7D84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4F0AEA-4C48-4416-9838-FB8BAE5D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F90BA7-6B1B-47EE-926F-4F2436E2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A886B3-9F4A-46AF-B6E0-6D4C0FB7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B2FEEF-30B9-47DA-9AB1-B9BBE739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D56EE3-7921-4EF8-843C-AE70B43C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1D256-272B-42CE-8C66-A9147037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55247D-32AB-4C24-A487-74B92077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0F96F1-7612-46FF-B9F6-99E4CF7C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B331FD-39E5-463D-8001-1B436C84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89C610-110A-4C44-8C88-B276EC21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3B6AB8-24A4-4CB0-B461-FF4BBE6A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A71C76-85D5-4D38-8100-C1DF96AD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4E0ACD-9216-4312-85BD-7CE305B9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FFD438-F308-4FAC-9092-E09E41A0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50B6C9-DE30-4258-A034-0B17B868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EAD938-424D-43BE-84A3-CE666B77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29249-8DFD-491D-AA9C-71D8CFA7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6E700B-E937-40BD-B1C2-8E98BE49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297AA2-540B-4A1E-8C34-EB2C4EEE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55BD72-3EC0-4E0C-B46A-76B4261A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0B608F-88DF-452E-890A-B8A76851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3323A1-436E-4D3B-87D7-4F885F09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E1C196-938E-4C96-872C-52A00838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595DC0-0CE5-46E6-B103-7BE62140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61822F-17FD-4A73-8BE6-18173150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A5ABF9-7657-4702-89C1-A68013BF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6B6FE3-613C-4425-879F-40548737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63D19-DD2A-4CBB-BB51-B2456E2D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993CD2-4873-4425-925B-7EC56FAD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8D17E2-D4A5-45B8-8AE8-BB5D88C1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B5D6BF-7737-4750-A9CF-0B5F9891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51330-0142-48D0-AFA3-F18B6A79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4F51C-C3AE-4895-9EB4-5748DFCF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69B58-9C8E-4269-852E-F1832EE7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3DDE0-2D93-46EB-820B-40A4FE8C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6B59B-2106-456B-983D-ADF84964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011A8-869C-470D-AD37-531C7CE9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BFD1C-1D5C-4F44-A938-4A185C91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9C358-C7E3-40C6-9CA6-3EC0AA21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A257F-A3CD-4FCF-91B4-FD6334E3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FEA25-84D2-4FF4-A5A9-C67085C9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EED55-1071-4BFA-B7CA-87CE93B3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24F4F-DBCF-4236-B146-972CF9B0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0DD25-99A8-41DD-AC51-27B71502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FCB48-1E41-4450-B501-5137122E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D923-43B7-47FE-8E56-E6AF9571653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Oval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3C88-E0C4-47D6-8285-6904D02E2D5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B251-39AA-426B-83BB-A6C81C3C840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traight Connector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Straight Connector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Straight Connector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Straight Connector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Oval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24FF-C314-47C9-AF01-8DE0D74927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traight Connector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Straight Connector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Straight Connector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Straight Connector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Straight Connector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06A6-4014-43F5-9414-1D8F4F5BC20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6B63-8A3A-4715-B4A8-9B3F9E01C7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5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25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A601-59A9-4833-81CB-DC11BCC682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719440" y="3166920"/>
            <a:ext cx="3705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FUNCŢII LINIAR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Matematica mai înseamnă şi altceva în afară de numere?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2268360" y="2349360"/>
            <a:ext cx="460872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e5e5ff"/>
                </a:solidFill>
                <a:latin typeface="Garamond"/>
              </a:rPr>
              <a:t>Care este diferenţa între funcţie şi corespondenţă?</a:t>
            </a:r>
            <a:br>
              <a:rPr sz="2400"/>
            </a:br>
            <a:r>
              <a:rPr b="1" lang="ro-RO" sz="2400" spc="-1" strike="noStrike">
                <a:solidFill>
                  <a:srgbClr val="e5e5ff"/>
                </a:solidFill>
                <a:latin typeface="Garamond"/>
              </a:rPr>
              <a:t>Cum rezolvăm ecuaţiile şi inecuaţiile cu ajutorul funcţiilor?</a:t>
            </a:r>
            <a:br>
              <a:rPr sz="2400"/>
            </a:br>
            <a:r>
              <a:rPr b="1" lang="ro-RO" sz="2400" spc="-1" strike="noStrike">
                <a:solidFill>
                  <a:srgbClr val="e5e5ff"/>
                </a:solidFill>
                <a:latin typeface="Garamond"/>
              </a:rPr>
              <a:t>Care este modul de a caracteriza o funcţie?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656240" y="1600200"/>
            <a:ext cx="4030560" cy="45259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611280" y="2276640"/>
            <a:ext cx="1439640" cy="230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"/>
          <p:cNvSpPr/>
          <p:nvPr/>
        </p:nvSpPr>
        <p:spPr>
          <a:xfrm>
            <a:off x="5076720" y="2133720"/>
            <a:ext cx="1224000" cy="2663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/>
          <p:nvPr/>
        </p:nvSpPr>
        <p:spPr>
          <a:xfrm>
            <a:off x="2771640" y="2205000"/>
            <a:ext cx="1295640" cy="2303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"/>
          <p:cNvSpPr/>
          <p:nvPr/>
        </p:nvSpPr>
        <p:spPr>
          <a:xfrm>
            <a:off x="1403280" y="3141720"/>
            <a:ext cx="187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"/>
          <p:cNvSpPr/>
          <p:nvPr/>
        </p:nvSpPr>
        <p:spPr>
          <a:xfrm>
            <a:off x="1476360" y="3429000"/>
            <a:ext cx="18716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1476360" y="3357720"/>
            <a:ext cx="180036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"/>
          <p:cNvSpPr/>
          <p:nvPr/>
        </p:nvSpPr>
        <p:spPr>
          <a:xfrm>
            <a:off x="7164360" y="2349360"/>
            <a:ext cx="1008000" cy="2376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"/>
          <p:cNvSpPr/>
          <p:nvPr/>
        </p:nvSpPr>
        <p:spPr>
          <a:xfrm>
            <a:off x="5724360" y="3068640"/>
            <a:ext cx="1800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"/>
          <p:cNvSpPr/>
          <p:nvPr/>
        </p:nvSpPr>
        <p:spPr>
          <a:xfrm>
            <a:off x="5867280" y="3068640"/>
            <a:ext cx="172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724360" y="3860280"/>
            <a:ext cx="180036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867280" y="3644640"/>
            <a:ext cx="165600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200" spc="-1" strike="noStrike">
                <a:solidFill>
                  <a:srgbClr val="e5e5ff"/>
                </a:solidFill>
                <a:latin typeface="Garamond"/>
              </a:rPr>
              <a:t>La final vom şti:</a:t>
            </a:r>
            <a:endParaRPr b="1" lang="en-US" sz="6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Ce este funcţia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Prin ce se recunosc funcţiile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Cum se calculează funcţiile în anumite puncte fixe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Cum de clasifică funcţiile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Cum determinăm funcţia a cărui grafic trece  prin două puncte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Cum aflăm coordonatele unui punct care se află pe graficul unei funcţii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Care sunt paşii pe care trebuie să-i parcurgem pentru a reprezenta grafic o funcţie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16360" y="1700280"/>
            <a:ext cx="36576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"/>
          <p:cNvSpPr/>
          <p:nvPr/>
        </p:nvSpPr>
        <p:spPr>
          <a:xfrm>
            <a:off x="5076720" y="2924280"/>
            <a:ext cx="2087640" cy="1728720"/>
          </a:xfrm>
          <a:prstGeom prst="rect">
            <a:avLst/>
          </a:prstGeom>
          <a:solidFill>
            <a:srgbClr val="e5e5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funcţi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"/>
          <p:cNvSpPr/>
          <p:nvPr/>
        </p:nvSpPr>
        <p:spPr>
          <a:xfrm rot="16511400">
            <a:off x="4784400" y="3651120"/>
            <a:ext cx="68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Domeniu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"/>
          <p:cNvSpPr/>
          <p:nvPr/>
        </p:nvSpPr>
        <p:spPr>
          <a:xfrm rot="400200">
            <a:off x="5725800" y="2708280"/>
            <a:ext cx="79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codomeniu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"/>
          <p:cNvSpPr/>
          <p:nvPr/>
        </p:nvSpPr>
        <p:spPr>
          <a:xfrm>
            <a:off x="5651640" y="44370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corespondenţă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"/>
          <p:cNvSpPr/>
          <p:nvPr/>
        </p:nvSpPr>
        <p:spPr>
          <a:xfrm rot="2915400">
            <a:off x="6956640" y="3354840"/>
            <a:ext cx="60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Arial"/>
              </a:rPr>
              <a:t>Imaginea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800" spc="-1" strike="noStrike">
                <a:solidFill>
                  <a:srgbClr val="ffffff"/>
                </a:solidFill>
                <a:latin typeface="Arial"/>
              </a:rPr>
              <a:t>funcţiei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"/>
          <p:cNvSpPr/>
          <p:nvPr/>
        </p:nvSpPr>
        <p:spPr>
          <a:xfrm>
            <a:off x="5346000" y="3043080"/>
            <a:ext cx="125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Graficul unei funcţii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07640" y="19886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e5ff"/>
                </a:solidFill>
                <a:latin typeface="Garamond"/>
              </a:rPr>
              <a:t>EXERCIȚII PREGĂTITOARE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e5e5ff"/>
                </a:solidFill>
                <a:latin typeface="Garamond"/>
              </a:rPr>
              <a:t>În perspectiva introducerii noțiunii de funcți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e5e5ff"/>
                </a:solidFill>
                <a:latin typeface="Garamond"/>
              </a:rPr>
              <a:t>Puneţi într-o corespondenţă elementele din următoarele mulţimi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247840" y="3367080"/>
                <a:ext cx="4572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1908000" y="2060640"/>
            <a:ext cx="2592720" cy="3816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332000" y="1989000"/>
                <a:ext cx="4464000" cy="29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7072200" y="222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"/>
          <p:cNvSpPr/>
          <p:nvPr/>
        </p:nvSpPr>
        <p:spPr>
          <a:xfrm>
            <a:off x="3040200" y="251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2843280" y="2997360"/>
                <a:ext cx="10652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5940360" y="2205000"/>
            <a:ext cx="2160720" cy="3745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6253200" y="2781360"/>
                <a:ext cx="1224000" cy="24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e5e5ff"/>
                </a:solidFill>
                <a:latin typeface="Garamond"/>
              </a:rPr>
              <a:t>Reprezentaţi printr-o diagramă Venn-Euler mulţimile D24, D36 şi D64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"/>
          <p:cNvSpPr/>
          <p:nvPr/>
        </p:nvSpPr>
        <p:spPr>
          <a:xfrm>
            <a:off x="1476360" y="1628640"/>
            <a:ext cx="3384720" cy="3313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1628640"/>
            <a:ext cx="3743280" cy="3313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"/>
          <p:cNvSpPr/>
          <p:nvPr/>
        </p:nvSpPr>
        <p:spPr>
          <a:xfrm>
            <a:off x="2195640" y="3213000"/>
            <a:ext cx="3528720" cy="295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76327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Reprezentați într-un sistem de axe ortogonale următoarele puncte: A(1;5), B(-2;3), C(-5;-7), D(2;-4), E(4;0), F(0;-2).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497880" y="2164320"/>
            <a:ext cx="8148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Fie punctele A(-1,2), B(2,2), C(3,-1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Reprezentaţi în sistemul de axe XoY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ele trei punct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alculaţi lungimile segmentelor AB, BC, AC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Este triunghiul ABC dreptunghic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07:13:06Z</dcterms:created>
  <dc:creator>Carmen</dc:creator>
  <dc:description/>
  <dc:language>en-US</dc:language>
  <cp:lastModifiedBy>xp</cp:lastModifiedBy>
  <dcterms:modified xsi:type="dcterms:W3CDTF">2010-11-21T12:03:09Z</dcterms:modified>
  <cp:revision>15</cp:revision>
  <dc:subject/>
  <dc:title>Exerciții pregătitoare</dc:title>
</cp:coreProperties>
</file>