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C5A36-2C1D-49B0-92EA-ABDFF1E78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4F130-DBFC-4BDA-9690-8F66313C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59485-A97C-402A-A145-36228A170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51CBB-82B0-4AAE-B50E-AC9EFD345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C52E-1A78-4792-A27B-2AD817E72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29A5-F55B-488D-BC3A-22CAB4FC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D076-B22D-4C4E-B026-4F519F1F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1ECA-6857-4FE5-87B8-B136843B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BA92-3DDF-419E-96E8-76E0691E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B9CA-7542-4944-917C-5142E8F0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700C-30A7-49AF-A677-8169A452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568E7-C037-4B6A-BFF1-FCD6ABD4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B91B-3BE9-46DD-A93C-726E591A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F707-7FC5-4AE7-896C-D684C4FB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7EDC-670E-4B14-B06F-E7AE0047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52CD-F0FC-42E4-B327-8FDEF46EA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6CFC-7277-4F67-8EAA-0D8918741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01FA90-0853-40F9-9100-2CBD7F73B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6F3175-A82C-4602-AFC8-EC34D5F7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9ADFA9-B09B-4C12-9489-90349664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48F0A8-AC49-4980-B474-B07AF26B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319654-6EC2-4BA2-963F-A75B3E08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AA055-2729-4268-A2CD-4E7E6DC5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30528A-A17F-4E6E-9BD3-5797FC7E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E1F59D-72FF-437A-9CF0-4D361CAE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BF93AF-1E24-403D-9837-BF449CB8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08F5BB-91AB-4656-89A8-D69CEB7D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D688CD-FECE-4274-BEE7-E51A41A3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766B6C-E278-4A56-BBCF-288C88127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0D645A-F435-4E08-A258-B804F5032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1D3A4B-8261-4CEA-8C52-1896D1720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BABFDE-CE19-4426-A08A-2AF9AC48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0596FD-15F4-43BC-ABC0-AEF68DA3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03A8E-418C-48EE-9874-14A3A51A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916E94-E9C3-48C2-B8FE-3F792C7D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2152F0-854A-45D3-BA25-C8EA8E4F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6B0287-CB5C-4D08-AD88-B80FCF62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938754-07A6-43E2-8772-BA1FC0D4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C84A10-E205-4C7F-A331-23225869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EE7379-C51D-4F14-95E5-7B467935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9E2EAB-2E28-464A-AD66-2B5EE35F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AD183B-C0B7-42ED-900C-237D9CC25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2968D3-3C10-41B9-BC9F-92D37AC5E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E81210-5961-4A1D-8580-E0BFD5392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77A7C-B16E-4A25-895D-D22F0575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F11943-2095-49DF-BEB2-791E69DA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B0B250-E925-48DF-BE40-2307F7F4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1A1D5E-774B-4AF1-B958-802C6C39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37F2C2-4E20-4C52-BCBE-09EC5B0B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708139-D2B2-4EE7-B457-785EC4C8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BA849E-E3EB-41C6-B209-C21F8FC9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4ED19E-64FD-4886-BCA0-0E27DF40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4217A3-5347-44B7-BFE6-6A350091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0AE379-B47A-44EF-AC96-5C46C05C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375142-026B-4755-A604-42739066F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C99BE-85CC-402B-8651-7E040BA9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6C95A2-3767-4172-91A0-16546308F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1C48A1-C788-46C5-B3E0-3FBCB408F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09F836-6C02-48B7-A316-D6D2C283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1B7753-00AB-4317-B55D-FF277609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9ADB8F-5702-49CC-80BC-FD209C89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1A6681-D9D0-4072-843A-D79491D9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7259CC-B174-4F8B-9011-8632245F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322BFB-7E3B-45B3-84C4-7C57BF6A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23F883-3052-40B9-9D77-4A05CE05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7DB597-EA25-4FC1-94CF-49405955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2A668-2542-4752-BD89-C5ECF517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7B48FF-EA78-49F8-92ED-784A9BD2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EC265B-CCEF-4707-ADF4-0A2B99A87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8C2434-DFA4-4421-BBE3-57C4DEECD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BB7E2-BE0B-4472-B13A-4292377B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6FC0E-9F37-4457-AA6B-11F5B7EB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5E6AC-8978-41F9-8DB8-A41DDB9E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387D8-CDAC-407D-A1D8-709DE127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F73C2-25A6-4819-A7EE-AF0F9666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D6EEC-8118-499A-8918-68F441CB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5A036-72AB-4B43-81C4-D119F3E7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51077-4236-4168-93F5-7BEEA335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D526C-8C9A-44B5-86CC-6ACCC683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F9F13-AC49-4455-BD7A-8DBAEF90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253D4-3EF7-495A-9011-1D129A52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5618B-3233-41B2-9FD8-6D8480963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A87C2-0BAA-400E-9B44-6AE731CE1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1D68F-273B-4CE7-B004-51EE05A9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C103-7D80-40D3-848E-4A34E82176D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Oval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Straight Connector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1CE6-B216-4C2F-8BEE-5924A7FBA9C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5061-563B-4531-934F-2091522F7C7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traight Connector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Straight Connector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Straight Connector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Straight Connector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Oval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87E8-53DC-43F3-BF77-2B2F7EA027B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traight Connector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Straight Connector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Straight Connector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Straight Connector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Straight Connector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B7C9-6041-4E8A-8199-0AAEBBEA1AB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1EFF-18AB-4E89-9B2F-E15B9324CE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50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51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258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98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99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dt" idx="1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F2AF-8150-4561-A4F2-5176F2A784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2719440" y="3166920"/>
            <a:ext cx="37051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FUNCŢII LINIAR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e5e5ff"/>
                </a:solidFill>
                <a:latin typeface="Garamond"/>
              </a:rPr>
              <a:t>Matematica mai înseamnă şi altceva în afară de numere?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2268360" y="2349360"/>
            <a:ext cx="460872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e5e5ff"/>
                </a:solidFill>
                <a:latin typeface="Garamond"/>
              </a:rPr>
              <a:t>Care este diferenţa între funcţie şi corespondenţă?</a:t>
            </a:r>
            <a:br>
              <a:rPr sz="2400"/>
            </a:br>
            <a:r>
              <a:rPr b="1" lang="ro-RO" sz="2400" spc="-1" strike="noStrike">
                <a:solidFill>
                  <a:srgbClr val="e5e5ff"/>
                </a:solidFill>
                <a:latin typeface="Garamond"/>
              </a:rPr>
              <a:t>Cum rezolvăm ecuaţiile şi inecuaţiile cu ajutorul funcţiilor?</a:t>
            </a:r>
            <a:br>
              <a:rPr sz="2400"/>
            </a:br>
            <a:r>
              <a:rPr b="1" lang="ro-RO" sz="2400" spc="-1" strike="noStrike">
                <a:solidFill>
                  <a:srgbClr val="e5e5ff"/>
                </a:solidFill>
                <a:latin typeface="Garamond"/>
              </a:rPr>
              <a:t>Care este modul de a caracteriza o funcţie?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0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656240" y="1600200"/>
            <a:ext cx="4030560" cy="45259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611280" y="2276640"/>
            <a:ext cx="1439640" cy="2304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"/>
          <p:cNvSpPr/>
          <p:nvPr/>
        </p:nvSpPr>
        <p:spPr>
          <a:xfrm>
            <a:off x="5076720" y="2133720"/>
            <a:ext cx="1224000" cy="2663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"/>
          <p:cNvSpPr/>
          <p:nvPr/>
        </p:nvSpPr>
        <p:spPr>
          <a:xfrm>
            <a:off x="2771640" y="2205000"/>
            <a:ext cx="1295640" cy="2303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"/>
          <p:cNvSpPr/>
          <p:nvPr/>
        </p:nvSpPr>
        <p:spPr>
          <a:xfrm>
            <a:off x="1403280" y="3141720"/>
            <a:ext cx="1873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"/>
          <p:cNvSpPr/>
          <p:nvPr/>
        </p:nvSpPr>
        <p:spPr>
          <a:xfrm>
            <a:off x="1476360" y="3429000"/>
            <a:ext cx="187164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1476360" y="3357720"/>
            <a:ext cx="180036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"/>
          <p:cNvSpPr/>
          <p:nvPr/>
        </p:nvSpPr>
        <p:spPr>
          <a:xfrm>
            <a:off x="7164360" y="2349360"/>
            <a:ext cx="1008000" cy="2376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"/>
          <p:cNvSpPr/>
          <p:nvPr/>
        </p:nvSpPr>
        <p:spPr>
          <a:xfrm>
            <a:off x="5724360" y="3068640"/>
            <a:ext cx="1800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"/>
          <p:cNvSpPr/>
          <p:nvPr/>
        </p:nvSpPr>
        <p:spPr>
          <a:xfrm>
            <a:off x="5867280" y="3068640"/>
            <a:ext cx="172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724360" y="3860280"/>
            <a:ext cx="180036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867280" y="3644640"/>
            <a:ext cx="165600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200" spc="-1" strike="noStrike">
                <a:solidFill>
                  <a:srgbClr val="e5e5ff"/>
                </a:solidFill>
                <a:latin typeface="Garamond"/>
              </a:rPr>
              <a:t>La final vom şti:</a:t>
            </a:r>
            <a:endParaRPr b="1" lang="en-US" sz="6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0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Garamond"/>
              </a:rPr>
              <a:t>Ce este funcţia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Garamond"/>
              </a:rPr>
              <a:t>Prin ce se recunosc funcţiile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Garamond"/>
              </a:rPr>
              <a:t>Cum se calculează funcţiile în anumite puncte fixe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Garamond"/>
              </a:rPr>
              <a:t>Cum de clasifică funcţiile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Garamond"/>
              </a:rPr>
              <a:t>Cum determinăm funcţia a cărui grafic trece  prin două puncte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Garamond"/>
              </a:rPr>
              <a:t>Cum aflăm coordonatele unui punct care se află pe graficul unei funcţii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Garamond"/>
              </a:rPr>
              <a:t>Care sunt paşii pe care trebuie să-i parcurgem pentru a reprezenta grafic o funcţie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16360" y="1700280"/>
            <a:ext cx="36576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9" name=""/>
          <p:cNvSpPr/>
          <p:nvPr/>
        </p:nvSpPr>
        <p:spPr>
          <a:xfrm>
            <a:off x="5076720" y="2924280"/>
            <a:ext cx="2087640" cy="1728720"/>
          </a:xfrm>
          <a:prstGeom prst="rect">
            <a:avLst/>
          </a:prstGeom>
          <a:solidFill>
            <a:srgbClr val="e5e5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funcţi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"/>
          <p:cNvSpPr/>
          <p:nvPr/>
        </p:nvSpPr>
        <p:spPr>
          <a:xfrm rot="16511400">
            <a:off x="4784400" y="3651120"/>
            <a:ext cx="68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Domeniu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"/>
          <p:cNvSpPr/>
          <p:nvPr/>
        </p:nvSpPr>
        <p:spPr>
          <a:xfrm rot="400200">
            <a:off x="5725800" y="2708280"/>
            <a:ext cx="79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codomeniu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"/>
          <p:cNvSpPr/>
          <p:nvPr/>
        </p:nvSpPr>
        <p:spPr>
          <a:xfrm>
            <a:off x="5651640" y="44370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corespondenţă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"/>
          <p:cNvSpPr/>
          <p:nvPr/>
        </p:nvSpPr>
        <p:spPr>
          <a:xfrm rot="2915400">
            <a:off x="6956640" y="3354840"/>
            <a:ext cx="60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Arial"/>
              </a:rPr>
              <a:t>Imaginea</a:t>
            </a: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800" spc="-1" strike="noStrike">
                <a:solidFill>
                  <a:srgbClr val="ffffff"/>
                </a:solidFill>
                <a:latin typeface="Arial"/>
              </a:rPr>
              <a:t>funcţiei</a:t>
            </a: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"/>
          <p:cNvSpPr/>
          <p:nvPr/>
        </p:nvSpPr>
        <p:spPr>
          <a:xfrm>
            <a:off x="5346000" y="3043080"/>
            <a:ext cx="125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Graficul unei funcţii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07640" y="19886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e5ff"/>
                </a:solidFill>
                <a:latin typeface="Garamond"/>
              </a:rPr>
              <a:t>EXERCIȚII PREGĂTITOARE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e5e5ff"/>
                </a:solidFill>
                <a:latin typeface="Garamond"/>
              </a:rPr>
              <a:t>În perspectiva introducerii noțiunii de funcți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e5e5ff"/>
                </a:solidFill>
                <a:latin typeface="Garamond"/>
              </a:rPr>
              <a:t>Puneţi într-o corespondenţă elementele din următoarele mulţimi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247840" y="3367080"/>
                <a:ext cx="4572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1908000" y="2060640"/>
            <a:ext cx="2592720" cy="3816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1332000" y="1989000"/>
                <a:ext cx="4464000" cy="29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82" name=""/>
          <p:cNvSpPr/>
          <p:nvPr/>
        </p:nvSpPr>
        <p:spPr>
          <a:xfrm>
            <a:off x="7072200" y="222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"/>
          <p:cNvSpPr/>
          <p:nvPr/>
        </p:nvSpPr>
        <p:spPr>
          <a:xfrm>
            <a:off x="3040200" y="2513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2843280" y="2997360"/>
                <a:ext cx="1065240" cy="21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5940360" y="2205000"/>
            <a:ext cx="2160720" cy="3745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6253200" y="2781360"/>
                <a:ext cx="1224000" cy="24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t xml:space="preserve">1</m:t>
                        </m:r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: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e5e5ff"/>
                </a:solidFill>
                <a:latin typeface="Garamond"/>
              </a:rPr>
              <a:t>Reprezentaţi printr-o diagramă Venn-Euler mulţimile D24, D36 şi D64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"/>
          <p:cNvSpPr/>
          <p:nvPr/>
        </p:nvSpPr>
        <p:spPr>
          <a:xfrm>
            <a:off x="1476360" y="1628640"/>
            <a:ext cx="3384720" cy="3313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"/>
          <p:cNvSpPr/>
          <p:nvPr/>
        </p:nvSpPr>
        <p:spPr>
          <a:xfrm>
            <a:off x="3276720" y="1628640"/>
            <a:ext cx="3743280" cy="3313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"/>
          <p:cNvSpPr/>
          <p:nvPr/>
        </p:nvSpPr>
        <p:spPr>
          <a:xfrm>
            <a:off x="2195640" y="3213000"/>
            <a:ext cx="3528720" cy="2952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4360" y="2276640"/>
            <a:ext cx="76327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o-RO" sz="4400" spc="-1" strike="noStrike">
                <a:solidFill>
                  <a:srgbClr val="e5e5ff"/>
                </a:solidFill>
                <a:latin typeface="Garamond"/>
              </a:rPr>
              <a:t>Reprezentați într-un sistem de axe ortogonale următoarele puncte: A(1;5), B(-2;3), C(-5;-7), D(2;-4), E(4;0), F(0;-2).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497880" y="2164320"/>
            <a:ext cx="8148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Fie punctele A(-1,2), B(2,2), C(3,-1)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Reprezentaţi în sistemul de axe XoY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ele trei puncte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alculaţi lungimile segmentelor AB, BC, AC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Este triunghiul ABC dreptunghic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07:13:06Z</dcterms:created>
  <dc:creator>Carmen</dc:creator>
  <dc:description/>
  <dc:language>en-US</dc:language>
  <cp:lastModifiedBy>xp</cp:lastModifiedBy>
  <dcterms:modified xsi:type="dcterms:W3CDTF">2010-11-21T12:03:09Z</dcterms:modified>
  <cp:revision>15</cp:revision>
  <dc:subject/>
  <dc:title>Exerciții pregătitoare</dc:title>
</cp:coreProperties>
</file>