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A19-654E-4E52-A888-3DE257E9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FC2-96D4-4BA6-8605-5DB56263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CDB-2FBB-41FF-BD24-5F621B31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508-09E4-4924-90C6-BC4F005D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CA13-F83F-40B9-8EC2-B7F74EDB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DBFC-DC9C-4213-A9A7-EF344A24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3E6E-F9E1-4AB7-9D89-1311897C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C05B-747D-469C-858A-00CC4CC6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9A9D-E970-4609-861B-DC435650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3FEC-2078-4904-B6EE-C217DC4D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E54B-BF7C-4104-B5B1-28330AF4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DD6-62A9-4FE3-BF5C-0D803751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7134-0490-419B-B9F7-6639AF79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3583-FC80-4126-A0AB-F6DDB4F5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8009-B572-4F48-91FC-BD8C6938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0609-A251-4869-8289-27573A7F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8307-3CC4-4C78-BEE3-DC6002B0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D4A-E2D6-4277-8D77-B519E187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A34-041E-416D-8251-27A76A03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85F-0AF6-4E9F-853E-2A07D9E4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886-A85C-4C58-904D-36BEFA66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4F5-4563-41E7-85CD-F393DA47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D56-057F-48EE-A4AE-BAD443F4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B8F-24B5-4DF5-8CB5-C319FEF9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F4BD-6C96-4050-9239-0FFF297B7E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AA8C-C249-4865-A2CD-5B8F7D4A20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lan_unitate/Unit_Plan_Template_RO.doc" TargetMode="External"/><Relationship Id="rId2" Type="http://schemas.openxmlformats.org/officeDocument/2006/relationships/hyperlink" Target="file:///Plan_unitate/BIBLIOGRAFIE.doc" TargetMode="External"/><Relationship Id="rId3" Type="http://schemas.openxmlformats.org/officeDocument/2006/relationships/hyperlink" Target="file:///documente%20administrative/plan%20implementare.doc" TargetMode="External"/><Relationship Id="rId4" Type="http://schemas.openxmlformats.org/officeDocument/2006/relationships/hyperlink" Target="file:///Evaluare/EVALUARE%20INITIALA.ppt" TargetMode="External"/><Relationship Id="rId5" Type="http://schemas.openxmlformats.org/officeDocument/2006/relationships/hyperlink" Target="file:///Evaluare/EVALUARE%20formativa.doc" TargetMode="External"/><Relationship Id="rId6" Type="http://schemas.openxmlformats.org/officeDocument/2006/relationships/hyperlink" Target="file:///../Stimularea%20autonomiei%20in%20invatare.doc" TargetMode="External"/><Relationship Id="rId7" Type="http://schemas.openxmlformats.org/officeDocument/2006/relationships/hyperlink" Target="file:///instrumente%20de%20evaluare%20pt%20incurajarea%20autonomiei%20in%20invatare.doc" TargetMode="External"/><Relationship Id="rId8" Type="http://schemas.openxmlformats.org/officeDocument/2006/relationships/hyperlink" Target="file:///Evaluare/EVALUARE%20SUMA.doc" TargetMode="External"/><Relationship Id="rId9" Type="http://schemas.openxmlformats.org/officeDocument/2006/relationships/hyperlink" Target="file:///../Grila%20de%20evaluare%20a%20produsul%20elevului.doc" TargetMode="External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80640" y="417600"/>
            <a:ext cx="686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lan unita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Plan uni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Bibli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Plan implemen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alu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aluare iniţială: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prezen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aluare formativă: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fişă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autonomi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observ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aluare sumativă: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test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grilă de evaluar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ghid de no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sistenţă unita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terial su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terial facilit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plicaţia elevul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2</cp:lastModifiedBy>
  <dcterms:modified xsi:type="dcterms:W3CDTF">2011-01-09T09:23:4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