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CF3-3BE1-4BF9-8A58-4EC73752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909-821D-4B6D-9ED2-6E0759AA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E5D-D5D9-4E6A-BB9C-FB48CF18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57A-64DD-464C-9D1F-CE187B2B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6D2D-D5F6-4A79-9B53-6C95E4A4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AC9B-89C7-46B4-84C1-BAE1E881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9477-59FD-41F2-A90B-432CE0A7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5A88-9BCA-495F-833F-D92215E5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3F7C-BA49-4040-94BE-C62A2BBA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02FA-1B2C-498D-B1CF-4EA729E0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8DC3-9953-43FC-BA9D-5B20371D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43B-C1E9-454A-BB30-B695D269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DBE0-F180-432A-9CD0-E1B08B8B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D8F6-9013-41D0-B89B-B75DE82A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929A-7AC6-4AA7-9ABD-48B8ED7B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9B76-CBE9-49E9-B0B0-ABBDA1CC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CEFA-6977-4AD3-9606-F5BD57D0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97E-30E3-452E-84C1-33057597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BCA-00F9-4532-9583-4A35D519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436-AB96-4D82-8DD8-6EF74CFB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522-3432-425C-997F-FD98C13E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B4C4-BF73-4A2B-9F28-EE5FA37B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FC6-EF7E-4F63-9B04-9532274B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502-C2E4-4C96-95EB-BADDEC0E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D587-6557-4D7B-B9A4-4C2F917192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8312-D90C-4DC7-AE8F-52572C8EFE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lan_unitate/Unit_Plan_Template_RO.doc" TargetMode="External"/><Relationship Id="rId2" Type="http://schemas.openxmlformats.org/officeDocument/2006/relationships/hyperlink" Target="file:///Plan_unitate/BIBLIOGRAFIE.doc" TargetMode="External"/><Relationship Id="rId3" Type="http://schemas.openxmlformats.org/officeDocument/2006/relationships/hyperlink" Target="file:///documente%20administrative/plan%20implementare.doc" TargetMode="External"/><Relationship Id="rId4" Type="http://schemas.openxmlformats.org/officeDocument/2006/relationships/hyperlink" Target="file:///Evaluare/EVALUARE%20INITIALA.ppt" TargetMode="External"/><Relationship Id="rId5" Type="http://schemas.openxmlformats.org/officeDocument/2006/relationships/hyperlink" Target="file:///Evaluare/EVALUARE%20formativa.doc" TargetMode="External"/><Relationship Id="rId6" Type="http://schemas.openxmlformats.org/officeDocument/2006/relationships/hyperlink" Target="file:///../Stimularea%20autonomiei%20in%20invatare.doc" TargetMode="External"/><Relationship Id="rId7" Type="http://schemas.openxmlformats.org/officeDocument/2006/relationships/hyperlink" Target="file:///instrumente%20de%20evaluare%20pt%20incurajarea%20autonomiei%20in%20invatare.doc" TargetMode="External"/><Relationship Id="rId8" Type="http://schemas.openxmlformats.org/officeDocument/2006/relationships/hyperlink" Target="file:///Evaluare/EVALUARE%20SUMA.doc" TargetMode="External"/><Relationship Id="rId9" Type="http://schemas.openxmlformats.org/officeDocument/2006/relationships/hyperlink" Target="file:///../Grila%20de%20evaluare%20a%20produsul%20elevului.doc" TargetMode="External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80640" y="417600"/>
            <a:ext cx="686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lan unita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Plan uni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Bibli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Plan implemen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alu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aluare iniţială: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prezen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aluare formativă: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fişă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autonomi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observ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aluare sumativă: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test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grilă de evaluar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ghid de no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sistenţă unita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terial su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terial facilit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plicaţia elevul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2</cp:lastModifiedBy>
  <dcterms:modified xsi:type="dcterms:W3CDTF">2011-01-09T09:23:4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