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85F6-A7EC-463B-97EA-96AE5AAB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9CF3-F3BF-4B00-BC22-2D51CDA1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40D1-1822-45C9-86A2-E499F584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A8BE-40B2-4201-B66C-7CAF1986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2998-6A76-4E3F-B1E1-422AFD0C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6E72-202F-4A9A-99A4-2149A841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E843-B7AA-4A07-BB11-F7143E0E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A581-9242-45F8-B450-6E0ABBFD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CF8A-0502-4B37-89B4-6B5C3E91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52CC-4575-4048-99F7-FD332121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8AD9-72C1-4206-A027-92619634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9775-A0D1-4D44-8357-1597DEC2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2ED9-15D5-47C5-B10E-A47DD193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6D78-BC3C-461F-84F8-91041D6B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FA72-2473-4DB0-8B0E-9988AEB0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C921-FFDD-4E1E-A893-7B72F583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45AA-5508-4BDB-AC66-FB29E70B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381E-9465-4400-AB2D-34814D31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8A3-E3FB-4087-9359-FD8F72FB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709-3B69-48A8-A3F6-52FACA45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29D-20A8-4743-B425-7D68B79C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C136-BB03-4416-ACE5-3237E7A3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9195-01F3-42A2-9E76-C5E63CDE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E659-20BF-4AA3-A38A-1E0F753C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A1C0-7201-421D-BB30-8A04188977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1AC4-0441-46C2-9B18-109AB166BF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lan_unitate/Unit_Plan_Template_RO.doc" TargetMode="External"/><Relationship Id="rId2" Type="http://schemas.openxmlformats.org/officeDocument/2006/relationships/hyperlink" Target="file:///Plan_unitate/BIBLIOGRAFIE.doc" TargetMode="External"/><Relationship Id="rId3" Type="http://schemas.openxmlformats.org/officeDocument/2006/relationships/hyperlink" Target="file:///documente%20administrative/plan%20implementare.doc" TargetMode="External"/><Relationship Id="rId4" Type="http://schemas.openxmlformats.org/officeDocument/2006/relationships/hyperlink" Target="file:///Evaluare/EVALUARE%20INITIALA.ppt" TargetMode="External"/><Relationship Id="rId5" Type="http://schemas.openxmlformats.org/officeDocument/2006/relationships/hyperlink" Target="file:///Evaluare/EVALUARE%20formativa.doc" TargetMode="External"/><Relationship Id="rId6" Type="http://schemas.openxmlformats.org/officeDocument/2006/relationships/hyperlink" Target="file:///../Stimularea%20autonomiei%20in%20invatare.doc" TargetMode="External"/><Relationship Id="rId7" Type="http://schemas.openxmlformats.org/officeDocument/2006/relationships/hyperlink" Target="file:///instrumente%20de%20evaluare%20pt%20incurajarea%20autonomiei%20in%20invatare.doc" TargetMode="External"/><Relationship Id="rId8" Type="http://schemas.openxmlformats.org/officeDocument/2006/relationships/hyperlink" Target="file:///Evaluare/EVALUARE%20SUMA.doc" TargetMode="External"/><Relationship Id="rId9" Type="http://schemas.openxmlformats.org/officeDocument/2006/relationships/hyperlink" Target="file:///../Grila%20de%20evaluare%20a%20produsul%20elevului.doc" TargetMode="External"/><Relationship Id="rId10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80640" y="417600"/>
            <a:ext cx="686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lan unita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Plan uni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Bibli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Plan implement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valu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valuare iniţială: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prezent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valuare formativă: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fişă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autonomi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observ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valuare sumativă: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test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grilă de evaluar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 ghid de not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sistenţă unita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terial su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terial facilit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plicaţia elevulu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2</cp:lastModifiedBy>
  <dcterms:modified xsi:type="dcterms:W3CDTF">2011-01-09T09:23:4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