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599-AE6E-48EA-86BC-0DDD57D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1AB-906B-4CD6-AF80-E6301FEF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894-23E1-48B8-8D54-1BD735C6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03A-8903-415F-881C-3351CE26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7F42-9158-4760-9A5F-F7915F4D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A802-C5EB-4A4B-89E0-4465AEE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166-379E-4A29-9938-988B9C06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82B-B01B-40E3-BCA7-17D6B96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8E91-3046-4252-B493-E7586265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176C-8E25-482F-995A-515D3C44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B6BD-0F52-467B-97F1-2731B6E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9FF-BA6B-4470-9F0D-C62E0AD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3D72-F1E5-4EAD-B094-410DDCF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E42C-9169-442B-A409-741030B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0A0-702B-4440-8764-956313DA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D10E-D128-4042-8822-80A7E827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BE45-78EB-4139-9F14-C7414A76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819-425C-4001-A036-59FE2E2C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733-99E4-4679-A3F9-893E0B2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291-DC73-4F52-AE9F-3175C33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0C4-6422-4F86-9BCD-C645DFD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96D-9841-40F9-90E5-E0187B7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702-8330-4226-9005-15628F7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C63-F70F-4F23-9E97-79B7C36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1985-CB71-4E54-9FE9-077C12E4C8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A45-EA4B-47C7-AB34-AB319A82F4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lan_unitate/Unit_Plan_Template_RO.doc" TargetMode="External"/><Relationship Id="rId2" Type="http://schemas.openxmlformats.org/officeDocument/2006/relationships/hyperlink" Target="file:///Plan_unitate/BIBLIOGRAFIE.doc" TargetMode="External"/><Relationship Id="rId3" Type="http://schemas.openxmlformats.org/officeDocument/2006/relationships/hyperlink" Target="file:///documente%20administrative/plan%20implementare.doc" TargetMode="External"/><Relationship Id="rId4" Type="http://schemas.openxmlformats.org/officeDocument/2006/relationships/hyperlink" Target="file:///Evaluare/EVALUARE%20INITIALA.ppt" TargetMode="External"/><Relationship Id="rId5" Type="http://schemas.openxmlformats.org/officeDocument/2006/relationships/hyperlink" Target="file:///Evaluare/EVALUARE%20formativa.doc" TargetMode="External"/><Relationship Id="rId6" Type="http://schemas.openxmlformats.org/officeDocument/2006/relationships/hyperlink" Target="file:///../Stimularea%20autonomiei%20in%20invatare.doc" TargetMode="External"/><Relationship Id="rId7" Type="http://schemas.openxmlformats.org/officeDocument/2006/relationships/hyperlink" Target="file:///instrumente%20de%20evaluare%20pt%20incurajarea%20autonomiei%20in%20invatare.doc" TargetMode="External"/><Relationship Id="rId8" Type="http://schemas.openxmlformats.org/officeDocument/2006/relationships/hyperlink" Target="file:///Evaluare/EVALUARE%20SUMA.doc" TargetMode="External"/><Relationship Id="rId9" Type="http://schemas.openxmlformats.org/officeDocument/2006/relationships/hyperlink" Target="file:///../Grila%20de%20evaluare%20a%20produsul%20elevului.doc" TargetMode="External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0640" y="417600"/>
            <a:ext cx="686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lan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an uni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Bibli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Plan implem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iniţial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rezen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for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iş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autonomi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observ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aluare sumativă: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tes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grilă de evaluar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ghid de no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sistenţă uni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su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facilit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plicaţia elev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2</cp:lastModifiedBy>
  <dcterms:modified xsi:type="dcterms:W3CDTF">2011-01-09T09:23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