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4BE-6696-4693-A8CF-FAB680E6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552-1D13-4353-9F3D-6629856A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A26-C496-4B09-A1AC-D182AF0A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1F9-E66A-48EA-8445-5BF03FA8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F1CC-5607-4C6C-A747-ED75C72A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B36D-0C3D-4B5F-8F15-247BE2FB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B256-7F24-4CFA-860A-C140CF13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C450-5543-4C33-96EB-8CD9A03A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6AC3-B3F4-4F5C-AA2A-3235E13D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0DE9-96C0-418B-A391-B8D4B8A0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1D13-F15C-485E-A75E-81ABB916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2FC-61B2-4C3E-893B-93EC760B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D1DC-9799-4313-984B-A55D9CD7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938A-6451-4E33-ACDF-5D1AB384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0C65-854C-4800-AE49-F05CAC7A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9D2F-02C0-43A2-9E08-3C5F007B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B1B5-60BE-4345-93EE-70E39303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64F-D7FC-44B7-83EE-B5C9CBD1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E16-F1EE-4063-9DC6-0DA274C1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51B-741A-4E4B-923F-7BBD2691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0EB-E8D3-4E64-B9B7-7E76B685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C1E-7F92-4B41-9678-A70FBFD1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347-0293-4128-B9D1-F9AB88E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0F6-3CE2-4E03-9E9D-5F50273E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CFE7-FFB1-4465-BE19-16219354F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42DD-2F35-4449-9AC3-6E0E42B48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76520" y="3000240"/>
            <a:ext cx="57909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NCŢII LINIAR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b7e7ff"/>
                </a:solidFill>
                <a:latin typeface="Arial"/>
              </a:rPr>
              <a:t>CONŢINUTUL UNITĂŢII DE ÎNVĂŢA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1. „Noţiunea de funcţie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“Funcţii definite pe mulţimi finit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3. Consolidare a cunoştinţelor dobândite în lecţiile anterio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4. „Funcţii definite pe R cu valori în R, de forma f(x)=ax+b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5. “Aplicaţii geometrice ale reprezentărilor grafic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b7e7ff"/>
                </a:solidFill>
                <a:latin typeface="Arial"/>
              </a:rPr>
              <a:t>CONŢINUTUL UNITĂŢII DE ÎNVĂŢA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6. “Funcţii de forma f(x)=ax+b, definite pe interva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7. „Aplicaţii geometrice ale reprezentărilor grafic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8. Evalu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9. Verificarea proiectelor de grup realizate de elevi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9:12:53Z</dcterms:created>
  <dc:creator>xp</dc:creator>
  <dc:description/>
  <dc:language>en-US</dc:language>
  <cp:lastModifiedBy>xp</cp:lastModifiedBy>
  <dcterms:modified xsi:type="dcterms:W3CDTF">2011-01-08T19:23:27Z</dcterms:modified>
  <cp:revision>2</cp:revision>
  <dc:subject/>
  <dc:title>Diapozitivul 1</dc:title>
</cp:coreProperties>
</file>