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03C-2701-4C81-9492-891E6ECB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5B9-19A2-4196-9D9A-0E885BDA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A77-7D36-4FE8-BDF4-18D02ECD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C87-DFEA-4170-B9ED-BE2F2976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336D-BDB9-4CA2-83D5-67B1F993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932F-C755-4B6C-96CB-D430575A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47EC-1AAD-49D0-BD60-98BE736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C1E-2618-4BC2-B075-35AC742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F9D-DED9-40D7-9FD8-6E0F15FE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99C-DDED-4C80-83FB-9FB1741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590A-5772-473B-8272-F4975BA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C15-EC69-4746-ABBF-C0FE3E6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5CA-C403-4530-B049-F0783CC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B37-E18C-4DCE-AD1F-9852A4A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33A1-00D5-45CF-9FFB-2EB4905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9E8E-A899-4DEA-9534-53CB5B28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CB7B-76EC-499E-A664-4CD40A8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B97-BE46-419B-A35D-80888FA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0B1-19AC-45A3-9BAC-80C7E62B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A85-05BC-4715-B1A1-10C74605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5B0-7578-4DF4-A257-AF02150D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EE0-C36F-4E73-8F9A-33DE790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847-2478-496B-BF20-E57F77C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476-7D5F-4779-A792-B848353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FB5-BF5B-4721-9AB6-064261FDF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799-87D8-4275-928D-638277D08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76520" y="3000240"/>
            <a:ext cx="5790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ŢII LINIA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„Noţiunea de funcţi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Funcţii definite pe mulţimi finit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Consolidare a cunoştinţelor dobândite în lecţiile anterio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4. „Funcţii definite pe R cu valori în R, de forma f(x)=ax+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5. “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. “Funcţii de forma f(x)=ax+b, definite pe interv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. „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8. Eval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. Verificarea proiectelor de grup realizate de elev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9:12:53Z</dcterms:created>
  <dc:creator>xp</dc:creator>
  <dc:description/>
  <dc:language>en-US</dc:language>
  <cp:lastModifiedBy>xp</cp:lastModifiedBy>
  <dcterms:modified xsi:type="dcterms:W3CDTF">2011-01-08T19:23:27Z</dcterms:modified>
  <cp:revision>2</cp:revision>
  <dc:subject/>
  <dc:title>Diapozitivul 1</dc:title>
</cp:coreProperties>
</file>