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135-0DA3-49CF-9108-4DF34B88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E81-DB57-4662-8565-22B86B9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7CB-57A4-4517-AA57-BE4591A0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B9D-449C-4B89-BA32-DDDBC80F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6CBD-59B7-4F7F-8D9E-78BE7EFD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8B7E-6EF6-4568-A111-B3382311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4D07-9573-48EA-B074-A62EA05B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C076-F1E9-4E94-BEBF-A0625C29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1B45-E720-4E49-9869-8CBDEA27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EA3C-DFE5-41E2-9E18-06CBAA22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B54A-F00E-46FF-AD88-817510A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3F3-586D-42D9-9AE8-48A4C4E8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6FD8-465D-4CA8-8B8D-C5354AE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B2BC-09E9-4ACC-90C9-E7EB86FC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341C-FACA-4A8A-BBA8-AFC13390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0524-E5F8-49A2-A8B7-8337FEC2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9A40-3DD4-42C9-8FD4-5D1054A6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C15-3335-4C5E-BF7F-19A70CB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4A7-9123-4970-8F83-000612A8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94D-6D2F-4F90-8233-114FD11E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517-5B1C-4470-AA0C-DB6A5D4C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78F-2A9A-418B-8E99-EFD2E636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000-CCEF-463D-8190-574D676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EBE-02A5-40AA-9500-67DCF4F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234A-94FB-465F-9D50-6F974AE7D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52B-79C5-4A42-B01C-ADFD74DC1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76520" y="3000240"/>
            <a:ext cx="5790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CŢII LINIAR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NŢINUTUL UNITĂŢII DE ÎNVĂŢA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. „Noţiunea de funcţi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“Funcţii definite pe mulţimi finit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3. Consolidare a cunoştinţelor dobândite în lecţiile anterio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4. „Funcţii definite pe R cu valori în R, de forma f(x)=ax+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5. “Aplicaţii geometrice ale reprezentărilor grafic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NŢINUTUL UNITĂŢII DE ÎNVĂŢA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6. “Funcţii de forma f(x)=ax+b, definite pe interv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7. „Aplicaţii geometrice ale reprezentărilor grafic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8. Evalu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9. Verificarea proiectelor de grup realizate de elevi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9:12:53Z</dcterms:created>
  <dc:creator>xp</dc:creator>
  <dc:description/>
  <dc:language>en-US</dc:language>
  <cp:lastModifiedBy>xp</cp:lastModifiedBy>
  <dcterms:modified xsi:type="dcterms:W3CDTF">2011-01-08T19:23:27Z</dcterms:modified>
  <cp:revision>2</cp:revision>
  <dc:subject/>
  <dc:title>Diapozitivul 1</dc:title>
</cp:coreProperties>
</file>