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8BA8-83C6-4460-8747-74186DA0F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7F58-1991-476E-A5F7-3C1927D9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413B-43D9-4423-B33B-D04843438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165F-D02D-445A-918C-9BDB909BD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6C0B-50C8-4258-A9BB-03646C521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5E19-BFF0-494F-AA8E-EB774714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CD8E-67F6-4C4A-9645-BFB89204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EA29-D2A2-4B3F-B4E1-8A01E25A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78B1-D99C-4519-897F-8C5F25C5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AAD4-C5F3-4D14-B3CC-6F52EF82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1649-EE14-4D50-AB84-9F0F479C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7C4C-50A5-4C3B-AF06-1878E5FB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A4D2-F394-4881-B5C5-0999A33D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1E59-5FBB-4DF1-844A-4AAE0721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83BD-85C4-4FB5-82C6-02B25E59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BAFC-9DD0-4497-BE4B-05B2AAA72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E914-201A-4329-BACB-3D9E3945B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96B2-BCDD-4E91-9C54-91EB98D9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A2B4-9643-4D86-B501-551EF4B5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846D-DB65-42F2-AD46-25DFEA8A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E85B-A680-42C8-B935-0113C9FE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1EA0-F8C6-4AC7-AB55-175DB257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8D4E-14D0-4BF3-8508-E9696CD3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0ED7-0461-4016-A8FC-F12AB2F7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26F0-26E9-443C-B317-E1D933F0BF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4991-5847-4AF1-9BC4-BBDEBA8DBF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676520" y="3000240"/>
            <a:ext cx="579096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UNCŢII LINIARE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b7e7ff"/>
                </a:solidFill>
                <a:latin typeface="Arial"/>
              </a:rPr>
              <a:t>CONŢINUTUL UNITĂŢII DE ÎNVĂŢAR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1. „Noţiunea de funcţie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“Funcţii definite pe mulţimi finite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3. Consolidare a cunoştinţelor dobândite în lecţiile anterio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4. „Funcţii definite pe R cu valori în R, de forma f(x)=ax+b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5. “Aplicaţii geometrice ale reprezentărilor grafice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b7e7ff"/>
                </a:solidFill>
                <a:latin typeface="Arial"/>
              </a:rPr>
              <a:t>CONŢINUTUL UNITĂŢII DE ÎNVĂŢAR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6. “Funcţii de forma f(x)=ax+b, definite pe interva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7. „Aplicaţii geometrice ale reprezentărilor grafice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8. Evalu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9. Verificarea proiectelor de grup realizate de elevi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19:12:53Z</dcterms:created>
  <dc:creator>xp</dc:creator>
  <dc:description/>
  <dc:language>en-US</dc:language>
  <cp:lastModifiedBy>xp</cp:lastModifiedBy>
  <dcterms:modified xsi:type="dcterms:W3CDTF">2011-01-08T19:23:27Z</dcterms:modified>
  <cp:revision>2</cp:revision>
  <dc:subject/>
  <dc:title>Diapozitivul 1</dc:title>
</cp:coreProperties>
</file>