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4614-9D73-40D1-8739-212F7F98F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- Variabila dependen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uncţie definită pe A cu valori î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5275-D72D-4FD5-897C-8C65B6AB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5F49-97C8-4235-AF39-2ABA6FB1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2F49-5C1E-4C11-BD04-EE32E685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EE73-E201-4E45-8292-E79BACFC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6AA8-ADF3-4B40-AA84-EFC0E8A2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224A-58E9-429F-8BCD-B1A54E62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137D-532C-4645-9FEB-9DD498E8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7E3F-74CC-4804-9414-75EEDA28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5E76-E8B4-4338-AF18-04579BBF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05FC-7B27-43D5-AE14-3D06D1EB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6834-DAE3-450D-A4F1-958F0982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2BD6-1934-49DD-901F-EC547439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570A-3D14-4CA3-B9A7-29FB62DF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A62B-A83F-4850-A7AF-B9AA1D58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4BFC-731C-40DF-AD98-4D213F68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4555-764C-46B3-B0C8-EDE8F298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0BA0-50C1-43D3-95DE-1C42C827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8F1C-210B-4411-8C7C-CB922C97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F57C-B8DD-4F71-B4ED-FE7DA6E9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75D-B6D4-43BC-94D4-3BE4CE95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C793-D0B2-435D-8962-9DEACBB0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680B-508E-4D28-AE1A-009830C2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1976-BBB7-4125-88B2-84268D73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6EBF-9309-422F-9294-75051704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DF1D-C6A1-4B87-9B9F-C6323057560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E670-0237-48A3-88EC-11B0D9370E6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9.wmf"/><Relationship Id="rId2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slideLayout" Target="../slideLayouts/slideLayout3.xml"/><Relationship Id="rId2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8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8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FUNC</a:t>
            </a:r>
            <a:r>
              <a:rPr b="0" lang="ro-RO" sz="5800" spc="-1" strike="noStrike">
                <a:solidFill>
                  <a:srgbClr val="999900"/>
                </a:solidFill>
                <a:latin typeface="Garamond"/>
              </a:rPr>
              <a:t>ŢII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Verdana"/>
              </a:rPr>
              <a:t>PROFESOR PANAET DUMITRU DANI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Verdan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</a:t>
            </a:r>
            <a:r>
              <a:rPr b="0" lang="ro-RO" sz="4400" spc="-1" strike="noStrike">
                <a:solidFill>
                  <a:srgbClr val="999900"/>
                </a:solidFill>
                <a:latin typeface="Garamond"/>
              </a:rPr>
              <a:t>UNCŢIA f:R</a:t>
            </a:r>
            <a:r>
              <a:rPr b="0" lang="ro-RO" sz="4400" spc="-1" strike="noStrike">
                <a:solidFill>
                  <a:srgbClr val="999900"/>
                </a:solidFill>
                <a:latin typeface="Symbol"/>
                <a:ea typeface="Symbol"/>
              </a:rPr>
              <a:t></a:t>
            </a:r>
            <a:r>
              <a:rPr b="0" lang="ro-RO" sz="4400" spc="-1" strike="noStrike">
                <a:solidFill>
                  <a:srgbClr val="999900"/>
                </a:solidFill>
                <a:latin typeface="Garamond"/>
              </a:rPr>
              <a:t>R, f(x)=ax+b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Reprezentarea geometrică a graficului este o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dreaptă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Este suficient să determinăm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două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puncte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ale graficulu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Exempl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f:R</a:t>
            </a:r>
            <a:r>
              <a:rPr b="0" lang="ro-RO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R, f(x)=x+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(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;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;4)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ficul este A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643280" y="1557360"/>
          <a:ext cx="417672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557360"/>
                    <a:ext cx="41767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4859280" y="4653000"/>
            <a:ext cx="352908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372360" y="1773360"/>
            <a:ext cx="0" cy="403056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35640" y="40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35640" y="407664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492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2565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3789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88000" y="220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372360" y="4292640"/>
            <a:ext cx="32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172360" y="4292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300720" y="1557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F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UNCŢIA f:I</a:t>
            </a:r>
            <a:r>
              <a:rPr b="0" lang="ro-RO" sz="4000" spc="-1" strike="noStrike">
                <a:solidFill>
                  <a:srgbClr val="999900"/>
                </a:solidFill>
                <a:latin typeface="Symbol"/>
                <a:ea typeface="Symbol"/>
              </a:rPr>
              <a:t>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R, f(x)=ax+b,              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   I-interval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Dacă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=(a,b)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raficul este un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segment deschi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Dacă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=[a,b]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raficul este un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segment 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închi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Dacă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=(a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+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au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=(-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,a)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raficul este o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semidreapt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deschis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Dacă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=[a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+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au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=(-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,a]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raficul este o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semidreapt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în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chis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33cc33"/>
                </a:solidFill>
                <a:latin typeface="Verdana"/>
              </a:rPr>
              <a:t>Exempl</a:t>
            </a:r>
            <a:r>
              <a:rPr b="0" lang="en-US" sz="1800" spc="-1" strike="noStrike">
                <a:solidFill>
                  <a:srgbClr val="33cc33"/>
                </a:solidFill>
                <a:latin typeface="Verdana"/>
              </a:rPr>
              <a:t>e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) 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f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-1,2]</a:t>
            </a:r>
            <a:r>
              <a:rPr b="0" lang="ro-RO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R, f(x)=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(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-2);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2;1)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aficul este [AB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f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-1,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o-RO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R, f(x)=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(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-2);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2;1)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aficul este [A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716360" y="1600200"/>
          <a:ext cx="388800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600200"/>
                    <a:ext cx="388800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4978440" y="3936960"/>
          <a:ext cx="3481200" cy="22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8440" y="3936960"/>
                    <a:ext cx="348120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5435640" y="5084640"/>
            <a:ext cx="28814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08720" y="2637000"/>
            <a:ext cx="28796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6948360" y="3860280"/>
            <a:ext cx="0" cy="223236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948360" y="1484280"/>
            <a:ext cx="0" cy="216072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588000" y="508464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8800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948000" y="472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812000" y="47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2349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812000" y="234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020000" y="134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48360" y="3789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172360" y="234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172360" y="47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77080" y="234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77080" y="479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372360" y="321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67640" y="2060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300720" y="566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96360" y="443700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167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6516720" y="2637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PUNCTELE DE INTERSEC</a:t>
            </a:r>
            <a:r>
              <a:rPr b="0" lang="ro-RO" sz="2800" spc="-1" strike="noStrike">
                <a:solidFill>
                  <a:srgbClr val="999900"/>
                </a:solidFill>
                <a:latin typeface="Garamond"/>
              </a:rPr>
              <a:t>ŢIE ALE GRAFICULUI FUNCŢIEI f:R</a:t>
            </a:r>
            <a:r>
              <a:rPr b="0" lang="ro-RO" sz="2800" spc="-1" strike="noStrike">
                <a:solidFill>
                  <a:srgbClr val="999900"/>
                </a:solidFill>
                <a:latin typeface="Symbol"/>
                <a:ea typeface="Symbol"/>
              </a:rPr>
              <a:t></a:t>
            </a:r>
            <a:r>
              <a:rPr b="0" lang="ro-RO" sz="2800" spc="-1" strike="noStrike">
                <a:solidFill>
                  <a:srgbClr val="999900"/>
                </a:solidFill>
                <a:latin typeface="Garamond"/>
              </a:rPr>
              <a:t>R, f(x)=ax+b CU AXELE DE COORDONATE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0000"/>
                </a:solidFill>
                <a:latin typeface="Verdana"/>
              </a:rPr>
              <a:t>INTERSECŢIA CU AXA O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0000"/>
                </a:solidFill>
                <a:latin typeface="Verdana"/>
              </a:rPr>
              <a:t>INTERSECŢIA CU AXA O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ro-RO" sz="20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ff"/>
                </a:solidFill>
                <a:latin typeface="Verdana"/>
              </a:rPr>
              <a:t>Exemplu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f:R</a:t>
            </a:r>
            <a:r>
              <a:rPr b="0" lang="ro-RO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R, f(x)=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(0,-2);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;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6610320" y="25858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648320" y="1778040"/>
          <a:ext cx="4027320" cy="43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78040"/>
                    <a:ext cx="402732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50920" y="2060640"/>
                <a:ext cx="41050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11280" y="3716280"/>
                <a:ext cx="35290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4716360" y="3933720"/>
            <a:ext cx="410364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6300720" y="1844280"/>
            <a:ext cx="0" cy="403236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27640" y="35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443640" y="1700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45964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72360" y="5084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877080" y="3573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PUNCTUL DE </a:t>
            </a:r>
            <a:r>
              <a:rPr b="0" lang="ro-RO" sz="2800" spc="-1" strike="noStrike">
                <a:solidFill>
                  <a:srgbClr val="999900"/>
                </a:solidFill>
                <a:latin typeface="Garamond"/>
              </a:rPr>
              <a:t>INTERSECŢIE A GRAFICELOR A DOUĂ FUNCŢII f,g:R</a:t>
            </a:r>
            <a:r>
              <a:rPr b="0" lang="ro-RO" sz="2800" spc="-1" strike="noStrike">
                <a:solidFill>
                  <a:srgbClr val="999900"/>
                </a:solidFill>
                <a:latin typeface="Symbol"/>
                <a:ea typeface="Symbol"/>
              </a:rPr>
              <a:t></a:t>
            </a:r>
            <a:r>
              <a:rPr b="0" lang="ro-RO" sz="2800" spc="-1" strike="noStrike">
                <a:solidFill>
                  <a:srgbClr val="999900"/>
                </a:solidFill>
                <a:latin typeface="Garamond"/>
              </a:rPr>
              <a:t>R REPREZENTATE ÎN ACELAŞI SISTEM DE AXE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Intersecţia celor două grafice este un element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;y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are apar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ţine ambelor gra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=f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şi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=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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 =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Exempl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f,g:R</a:t>
            </a:r>
            <a:r>
              <a:rPr b="0" lang="ro-RO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R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x)=3x-2, g(x)=-x+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x-2=-x+6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=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(2)=4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(2,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649760" y="1600200"/>
          <a:ext cx="4035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9760" y="1600200"/>
                    <a:ext cx="4035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4788000" y="4653000"/>
            <a:ext cx="388764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5940360" y="1557360"/>
            <a:ext cx="0" cy="439272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659640" y="306864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40360" y="3068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65964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4365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1708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40360" y="148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59640" y="1628640"/>
            <a:ext cx="81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Verdan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19640" y="1700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G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Verdan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EXEMPLE DE GRAFICE CE NU REPREZINTĂ FUNCŢII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Elementul  b din A nu are imagine în 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585120" y="2604960"/>
          <a:ext cx="1648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5120" y="2604960"/>
                    <a:ext cx="1648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1981080" y="1981080"/>
            <a:ext cx="1371600" cy="2971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486400" y="1676520"/>
            <a:ext cx="1828800" cy="327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2514600" y="2362320"/>
          <a:ext cx="165240" cy="1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362320"/>
                    <a:ext cx="1652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2362320" y="2820960"/>
          <a:ext cx="164880" cy="17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2820960"/>
                    <a:ext cx="1648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2286000" y="3429000"/>
          <a:ext cx="165240" cy="17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3429000"/>
                    <a:ext cx="1652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2590920" y="4114800"/>
          <a:ext cx="164880" cy="177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4114800"/>
                    <a:ext cx="1648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6324480" y="1981080"/>
          <a:ext cx="304920" cy="274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24480" y="1981080"/>
                    <a:ext cx="30492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6248520" y="2438280"/>
          <a:ext cx="304560" cy="274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2438280"/>
                    <a:ext cx="3045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6248520" y="4191120"/>
          <a:ext cx="304560" cy="274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48520" y="4191120"/>
                    <a:ext cx="3045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6781680" y="2971800"/>
          <a:ext cx="304920" cy="274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81680" y="2971800"/>
                    <a:ext cx="30492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6019920" y="3505320"/>
          <a:ext cx="304560" cy="274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19920" y="3505320"/>
                    <a:ext cx="3045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2743200" y="2438280"/>
            <a:ext cx="40384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514600" y="2133720"/>
            <a:ext cx="380988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2743200" y="3657240"/>
            <a:ext cx="32767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271960" y="217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3552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19320" y="3389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42460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615360" y="1865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463080" y="232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072560" y="285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34480" y="34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538680" y="4075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91080" y="1944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224840" y="1792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76201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Lipseşte domeniul de definiţ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791320" y="1905120"/>
          <a:ext cx="1648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905120"/>
                    <a:ext cx="1648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4648320" y="762120"/>
            <a:ext cx="1676160" cy="3200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5410080" y="1143000"/>
          <a:ext cx="165240" cy="1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1143000"/>
                    <a:ext cx="1652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5486400" y="2973240"/>
          <a:ext cx="165240" cy="17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2973240"/>
                    <a:ext cx="1652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5791320" y="2057400"/>
          <a:ext cx="164880" cy="17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2057400"/>
                    <a:ext cx="1648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2286000" y="1981080"/>
          <a:ext cx="380880" cy="3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1981080"/>
                    <a:ext cx="3808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2438280" y="2666880"/>
          <a:ext cx="38124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38280" y="2666880"/>
                    <a:ext cx="381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3429000" y="2286000"/>
          <a:ext cx="380880" cy="34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29000" y="2286000"/>
                    <a:ext cx="3808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2362320" y="3962520"/>
          <a:ext cx="380880" cy="34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62320" y="3962520"/>
                    <a:ext cx="3808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 flipV="1">
            <a:off x="2666880" y="1294920"/>
            <a:ext cx="274320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809880" y="2133720"/>
            <a:ext cx="19051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743200" y="2819520"/>
            <a:ext cx="26668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2743200" y="2209680"/>
            <a:ext cx="304812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1968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339000" y="217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347920" y="26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271960" y="384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640480" y="1066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05880" y="194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640840" y="28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462720" y="184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79246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mentul c din A are două imagini în 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6603840" y="2630520"/>
          <a:ext cx="127080" cy="1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3840" y="2630520"/>
                    <a:ext cx="12708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2286000" y="1066680"/>
            <a:ext cx="1523880" cy="3048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38680" y="1219320"/>
            <a:ext cx="1600200" cy="28191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819520" y="1447920"/>
          <a:ext cx="22860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447920"/>
                    <a:ext cx="228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2743200" y="1905120"/>
          <a:ext cx="22860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1905120"/>
                    <a:ext cx="228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2743200" y="2438280"/>
          <a:ext cx="22860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2438280"/>
                    <a:ext cx="228600" cy="228600"/>
                  </a:xfrm>
                  <a:prstGeom prst="rect">
                    <a:avLst/>
                  </a:prstGeom>
                  <a:ln w="936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3124080" y="3352680"/>
          <a:ext cx="22860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24080" y="3352680"/>
                    <a:ext cx="228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6400800" y="1447920"/>
          <a:ext cx="380880" cy="34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00800" y="1447920"/>
                    <a:ext cx="3808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5943600" y="1828800"/>
          <a:ext cx="380880" cy="344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3600" y="1828800"/>
                    <a:ext cx="3808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6095880" y="3429000"/>
          <a:ext cx="381240" cy="344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5880" y="3429000"/>
                    <a:ext cx="38124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6705720" y="2819520"/>
          <a:ext cx="380880" cy="344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05720" y="2819520"/>
                    <a:ext cx="3808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6477120" y="2209680"/>
          <a:ext cx="380880" cy="344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77120" y="2209680"/>
                    <a:ext cx="3808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2348280" y="954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24840" y="1639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653200" y="13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7688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00200" y="2398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897640" y="3276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67640" y="1332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234480" y="171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768000" y="224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996600" y="293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386400" y="3465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1600200"/>
            <a:ext cx="29718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971800" y="1676520"/>
            <a:ext cx="34290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971800" y="2590920"/>
            <a:ext cx="38098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971800" y="2666880"/>
            <a:ext cx="31240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3352680" y="2438280"/>
            <a:ext cx="312444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9154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Nu este sigur că elementul b din A are imagine în 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2895480" y="3049560"/>
          <a:ext cx="406440" cy="3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049560"/>
                    <a:ext cx="40644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"/>
          <p:cNvSpPr/>
          <p:nvPr/>
        </p:nvSpPr>
        <p:spPr>
          <a:xfrm>
            <a:off x="2362320" y="1523880"/>
            <a:ext cx="1600200" cy="3124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705720" y="838080"/>
            <a:ext cx="1600200" cy="3505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2895480" y="1752480"/>
          <a:ext cx="368280" cy="3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1752480"/>
                    <a:ext cx="3682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2743200" y="2286000"/>
          <a:ext cx="406440" cy="36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286000"/>
                    <a:ext cx="406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2743200" y="2819520"/>
          <a:ext cx="368280" cy="33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2819520"/>
                    <a:ext cx="36828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2895480" y="3809880"/>
          <a:ext cx="36828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3809880"/>
                    <a:ext cx="3682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"/>
          <p:cNvSpPr/>
          <p:nvPr/>
        </p:nvSpPr>
        <p:spPr>
          <a:xfrm>
            <a:off x="2729160" y="171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653200" y="232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652480" y="2779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729160" y="377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982880" y="2514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367840" y="1463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315200" y="1219320"/>
          <a:ext cx="368280" cy="36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15200" y="121932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7391520" y="3276720"/>
          <a:ext cx="368280" cy="36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91520" y="327672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7467480" y="2133720"/>
          <a:ext cx="368280" cy="36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467480" y="213372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7682040" y="1179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911000" y="2093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758360" y="323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276720" y="1447920"/>
            <a:ext cx="40384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123720" y="2286000"/>
            <a:ext cx="4343400" cy="2286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200400" y="2438280"/>
            <a:ext cx="4267080" cy="152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124080" y="2971800"/>
            <a:ext cx="41911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0773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lipseşte domeniul valori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2743200" y="2744640"/>
          <a:ext cx="254160" cy="2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744640"/>
                    <a:ext cx="25416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"/>
          <p:cNvSpPr/>
          <p:nvPr/>
        </p:nvSpPr>
        <p:spPr>
          <a:xfrm>
            <a:off x="2286000" y="990720"/>
            <a:ext cx="1676520" cy="3200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2819520" y="1295280"/>
          <a:ext cx="38088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295280"/>
                    <a:ext cx="3808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666880" y="1828800"/>
          <a:ext cx="38124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1828800"/>
                    <a:ext cx="3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2666880" y="2438280"/>
          <a:ext cx="38124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2438280"/>
                    <a:ext cx="3812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971800" y="3124080"/>
          <a:ext cx="380880" cy="38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3124080"/>
                    <a:ext cx="3808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"/>
          <p:cNvSpPr/>
          <p:nvPr/>
        </p:nvSpPr>
        <p:spPr>
          <a:xfrm>
            <a:off x="1982880" y="150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653200" y="13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7688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500200" y="2398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805480" y="31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6019920" y="838080"/>
          <a:ext cx="368280" cy="331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9920" y="838080"/>
                    <a:ext cx="3682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6858000" y="1523880"/>
          <a:ext cx="368280" cy="331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0" y="1523880"/>
                    <a:ext cx="3682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5562720" y="2362320"/>
          <a:ext cx="368280" cy="331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62720" y="2362320"/>
                    <a:ext cx="36828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6400800" y="2895480"/>
          <a:ext cx="368280" cy="331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00800" y="2895480"/>
                    <a:ext cx="3682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7924680" y="2590920"/>
          <a:ext cx="368280" cy="331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924680" y="2590920"/>
                    <a:ext cx="36828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6310440" y="722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14888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853600" y="224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768000" y="293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215200" y="2627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3124080" y="1066680"/>
            <a:ext cx="2895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971800" y="1981080"/>
            <a:ext cx="48769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3048120" y="1752480"/>
            <a:ext cx="38098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3276720" y="2590920"/>
            <a:ext cx="228600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FINIŢ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Fie A şi B două mulţimi. Dacă, printr-un procedeu oarecare, facem ca </a:t>
            </a: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oricărui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element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din mulţimea A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să-i corespundă </a:t>
            </a: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un singur element din mulţimea B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, vom spune că am definit o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funcţie de la A la B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:A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, y=f(x), oricare ar fi x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, y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Componentele funcţie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=domeniul de defini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ţi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domeniul de valori (codomeniul)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=f(x) – legea de coresponden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ţ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RAFICUL UNEI FUNCŢII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809440"/>
            <a:ext cx="822960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Fi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: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, y=f(x)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Mulţimea </a:t>
            </a:r>
            <a:r>
              <a:rPr b="0" lang="ro-RO" sz="2800" spc="-1" strike="noStrike">
                <a:solidFill>
                  <a:srgbClr val="ff0000"/>
                </a:solidFill>
                <a:latin typeface="Verdana"/>
              </a:rPr>
              <a:t>G</a:t>
            </a:r>
            <a:r>
              <a:rPr b="0" lang="ro-RO" sz="2800" spc="-1" strike="noStrike" baseline="-25000">
                <a:solidFill>
                  <a:srgbClr val="ff0000"/>
                </a:solidFill>
                <a:latin typeface="Verdana"/>
              </a:rPr>
              <a:t>f</a:t>
            </a:r>
            <a:r>
              <a:rPr b="0" lang="ro-RO" sz="2800" spc="-1" strike="noStrike">
                <a:solidFill>
                  <a:srgbClr val="ff0000"/>
                </a:solidFill>
                <a:latin typeface="Verdana"/>
              </a:rPr>
              <a:t>=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{(x,y)/ x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, y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B, y=f(x)}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 nume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şte </a:t>
            </a:r>
            <a:r>
              <a:rPr b="0" lang="ro-RO" sz="2800" spc="-1" strike="noStrike">
                <a:solidFill>
                  <a:srgbClr val="ff0000"/>
                </a:solidFill>
                <a:latin typeface="Verdana"/>
              </a:rPr>
              <a:t>graficul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funcţiei f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ficul unei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funcţii poate fi reprezentat într-un sistem ortogonal de axe xo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990720"/>
            <a:ext cx="2133360" cy="457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914400"/>
            <a:ext cx="1981080" cy="4724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92440" y="17892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08520" y="23194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97200" y="31939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68560" y="42400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40080" y="50497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03760" y="291636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84600" y="433404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828800" y="2209680"/>
          <a:ext cx="3556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355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676520" y="3048120"/>
          <a:ext cx="3301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048120"/>
                    <a:ext cx="330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752480" y="4114800"/>
          <a:ext cx="38592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114800"/>
                    <a:ext cx="385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424240" y="1676520"/>
          <a:ext cx="38736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24240" y="1676520"/>
                    <a:ext cx="3873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666880" y="2743200"/>
          <a:ext cx="38592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2743200"/>
                    <a:ext cx="385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590920" y="4343400"/>
          <a:ext cx="331560" cy="460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90920" y="4343400"/>
                    <a:ext cx="3315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209680" y="5029200"/>
          <a:ext cx="331920" cy="458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09680" y="5029200"/>
                    <a:ext cx="3319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705720" y="1752480"/>
            <a:ext cx="685800" cy="685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2590920"/>
            <a:ext cx="457200" cy="533160"/>
          </a:xfrm>
          <a:prstGeom prst="triangle">
            <a:avLst>
              <a:gd name="adj" fmla="val 50000"/>
            </a:avLst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4419720"/>
            <a:ext cx="533520" cy="5331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3657600"/>
            <a:ext cx="990360" cy="380880"/>
          </a:xfrm>
          <a:prstGeom prst="parallelogram">
            <a:avLst>
              <a:gd name="adj" fmla="val 6500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2514600"/>
            <a:ext cx="48006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971800" y="4038120"/>
            <a:ext cx="35053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286000" y="2361960"/>
            <a:ext cx="441972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666880" y="4876920"/>
            <a:ext cx="39625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22856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1905120"/>
            <a:ext cx="37339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3124080"/>
            <a:ext cx="4419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286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00"/>
                </a:solidFill>
                <a:latin typeface="Arial"/>
              </a:rPr>
              <a:t>GRAFICUL  UNEI  FUNC</a:t>
            </a:r>
            <a:r>
              <a:rPr b="0" lang="ro-RO" sz="3600" spc="-1" strike="noStrike">
                <a:solidFill>
                  <a:srgbClr val="cc9900"/>
                </a:solidFill>
                <a:latin typeface="Arial"/>
              </a:rPr>
              <a:t>Ţ</a:t>
            </a:r>
            <a:r>
              <a:rPr b="0" lang="en-US" sz="3600" spc="-1" strike="noStrike">
                <a:solidFill>
                  <a:srgbClr val="cc9900"/>
                </a:solidFill>
                <a:latin typeface="Arial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10666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92960" y="990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162920" y="1447920"/>
          <a:ext cx="550800" cy="761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2920" y="1447920"/>
                    <a:ext cx="5508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7467480" y="2590920"/>
          <a:ext cx="594000" cy="761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67480" y="2590920"/>
                    <a:ext cx="594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7238880" y="3581280"/>
          <a:ext cx="533520" cy="685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38880" y="3581280"/>
                    <a:ext cx="533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7086600" y="4419720"/>
          <a:ext cx="474840" cy="610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086600" y="4419720"/>
                    <a:ext cx="47484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143000" y="5524560"/>
          <a:ext cx="762120" cy="495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143000" y="5524560"/>
                    <a:ext cx="7621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066680" y="6014880"/>
          <a:ext cx="914400" cy="487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066680" y="6014880"/>
                    <a:ext cx="9144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057040" y="5613480"/>
            <a:ext cx="29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ila independent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2640" y="6070680"/>
            <a:ext cx="27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ariabila dependent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EXEMPLE  DE  GRAFICE  DE FUNCŢII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597720" y="2617920"/>
          <a:ext cx="139680" cy="1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7720" y="2617920"/>
                    <a:ext cx="1396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981080" y="1752480"/>
            <a:ext cx="1524240" cy="2362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1676520"/>
            <a:ext cx="1371600" cy="2514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67040" y="1636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24840" y="1636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590920" y="2057400"/>
          <a:ext cx="139680" cy="15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2057400"/>
                    <a:ext cx="1396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843280" y="3789360"/>
          <a:ext cx="139680" cy="15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3280" y="3789360"/>
                    <a:ext cx="1396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590920" y="3124080"/>
          <a:ext cx="139680" cy="15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3124080"/>
                    <a:ext cx="13968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629400" y="2057400"/>
          <a:ext cx="127080" cy="127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2057400"/>
                    <a:ext cx="12708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858000" y="2743200"/>
          <a:ext cx="127080" cy="12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0" y="2743200"/>
                    <a:ext cx="12708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629400" y="3581280"/>
          <a:ext cx="127080" cy="127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29400" y="3581280"/>
                    <a:ext cx="12708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2364120" y="198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87880" y="2968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744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67280" y="1865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95880" y="26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0" y="3465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213372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3200400"/>
            <a:ext cx="37335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059280" y="2781360"/>
            <a:ext cx="3600360" cy="1015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67040" y="5105520"/>
            <a:ext cx="71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ţie definită pe A cu valori în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3048120" y="2973240"/>
          <a:ext cx="139680" cy="1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73240"/>
                    <a:ext cx="13968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438280" y="914400"/>
            <a:ext cx="1219320" cy="2666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824600">
            <a:off x="4533840" y="1104480"/>
            <a:ext cx="2819160" cy="1218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8307200">
            <a:off x="5715000" y="3276000"/>
            <a:ext cx="25146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895480" y="1143000"/>
          <a:ext cx="20952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114300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2819520" y="1676520"/>
          <a:ext cx="20952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167652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749680" y="2286000"/>
          <a:ext cx="20952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9680" y="228600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2971800" y="2895480"/>
          <a:ext cx="20952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289548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5867280" y="762120"/>
            <a:ext cx="7632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1371600"/>
            <a:ext cx="7632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2057400"/>
            <a:ext cx="7596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3124080"/>
            <a:ext cx="7632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4038480"/>
            <a:ext cx="7596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29160" y="102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904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76520" y="2170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05480" y="2779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05520" y="569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81480" y="117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81480" y="194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16640" y="2971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4396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124080" y="838080"/>
            <a:ext cx="26672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276720" y="1523880"/>
            <a:ext cx="259056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1828800"/>
            <a:ext cx="3581280" cy="220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2438280"/>
            <a:ext cx="41911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95640" y="1387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54880" y="817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81680" y="32925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93240" y="4270320"/>
            <a:ext cx="48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ţie definită pe A cu valori î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69560" y="5184720"/>
            <a:ext cx="48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ţie definită pe A cu valori î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4680" y="602280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ţie definită pe A cu valori în BU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16760" y="4724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93080" y="57150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609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77724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cţie definită pe B cu valori în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597720" y="2617920"/>
          <a:ext cx="139680" cy="1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7720" y="2617920"/>
                    <a:ext cx="1396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2362320" y="838080"/>
            <a:ext cx="1600200" cy="3276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19920" y="1295280"/>
            <a:ext cx="1523880" cy="3048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971800" y="1295280"/>
          <a:ext cx="20952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29528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95480" y="1905120"/>
          <a:ext cx="20952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190512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66880" y="2514600"/>
          <a:ext cx="20952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251460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3200400" y="3200400"/>
          <a:ext cx="20952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0400" y="320040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705720" y="1828800"/>
            <a:ext cx="152280" cy="152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2666880"/>
            <a:ext cx="152280" cy="152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29400" y="3657600"/>
            <a:ext cx="152280" cy="152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29160" y="117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2916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00200" y="2398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57760" y="31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19920" y="1636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43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43960" y="3541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429000" y="1981080"/>
            <a:ext cx="320040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200040" y="1447920"/>
            <a:ext cx="342900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2895480" y="2590560"/>
            <a:ext cx="36576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43560" y="64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01160" y="1106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)funcţie definită pe A cu valori în B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(funcţie constantă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1676520"/>
            <a:ext cx="1600200" cy="3504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1676520"/>
            <a:ext cx="1143000" cy="3429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33880" y="1639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234480" y="1487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04080" y="28558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2057400"/>
            <a:ext cx="152280" cy="15228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2590920"/>
            <a:ext cx="152640" cy="15228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4267080"/>
            <a:ext cx="152280" cy="15264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057400" y="3352680"/>
            <a:ext cx="152280" cy="15264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3060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2604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71960" y="4227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666880" y="3276360"/>
            <a:ext cx="30481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286000" y="3200040"/>
            <a:ext cx="3352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81080" y="2666880"/>
            <a:ext cx="3657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2133720"/>
            <a:ext cx="3429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638680" y="2971800"/>
          <a:ext cx="45720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971800"/>
                    <a:ext cx="4572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999900"/>
                </a:solidFill>
                <a:latin typeface="Garamond"/>
              </a:rPr>
              <a:t>FUNCŢIA f:A</a:t>
            </a:r>
            <a:r>
              <a:rPr b="0" lang="ro-RO" sz="4400" spc="-1" strike="noStrike">
                <a:solidFill>
                  <a:srgbClr val="999900"/>
                </a:solidFill>
                <a:latin typeface="Symbol"/>
                <a:ea typeface="Symbol"/>
              </a:rPr>
              <a:t></a:t>
            </a:r>
            <a:r>
              <a:rPr b="0" lang="ro-RO" sz="4400" spc="-1" strike="noStrike">
                <a:solidFill>
                  <a:srgbClr val="999900"/>
                </a:solidFill>
                <a:latin typeface="Garamond"/>
              </a:rPr>
              <a:t>R, f(x)=ax+b, 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                          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o-RO" sz="4400" spc="-1" strike="noStrike">
                <a:solidFill>
                  <a:srgbClr val="999900"/>
                </a:solidFill>
                <a:latin typeface="Garamond"/>
              </a:rPr>
              <a:t>A-mulţime finită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Reprezentarea geometrică a graficului este o mulţime de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puncte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colinia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Exempl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:{-2,0,1,2,3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, 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(x)=x+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(-2,1);B(0;3);C(1;4); D(2;5);E(3;6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716360" y="1562040"/>
          <a:ext cx="410364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562040"/>
                    <a:ext cx="410364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4859280" y="4797360"/>
            <a:ext cx="381636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724360" y="1628280"/>
            <a:ext cx="0" cy="4032360"/>
          </a:xfrm>
          <a:prstGeom prst="line">
            <a:avLst/>
          </a:prstGeom>
          <a:ln w="2844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43280" y="40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3213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8472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16720" y="22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48360" y="18446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4365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03640" y="4365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24360" y="3068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6000" y="263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56360" y="3068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88000" y="2708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48360" y="227664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24360" y="2205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24360" y="4437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244000" y="44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51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6:45:49Z</dcterms:created>
  <dc:creator>Nicoleta</dc:creator>
  <dc:description/>
  <cp:keywords/>
  <dc:language>en-US</dc:language>
  <cp:lastModifiedBy>xp</cp:lastModifiedBy>
  <dcterms:modified xsi:type="dcterms:W3CDTF">2011-01-05T12:36:17Z</dcterms:modified>
  <cp:revision>8</cp:revision>
  <dc:subject/>
  <dc:title>FUNCŢ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31033</vt:lpwstr>
  </property>
</Properties>
</file>