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240E-FF63-469F-AB49-EAD8CFD2C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- Variabila dependen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FE1-DC76-4FF1-867D-2F81E3A5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12A-34FF-4E75-B9A9-2521CE54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EA1-6C26-49BE-9ADE-27734C71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8DB-0A4E-4DEC-BDA3-A145DF20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96CB-9996-41E1-B550-A2AA658F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A881-CB84-4C25-9D4A-3708EC88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239D-2665-4A6B-965E-7D2778FF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33D9-7068-4A0B-A5DE-71213C5F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53CF-0276-463E-A8F8-3CB87D25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3F00-D90E-409B-BF0A-9C6FC688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E8FC-108B-4D69-A30A-E0596CA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D6D-7B45-477F-B67F-E157893A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5B6D-211B-4D58-9A36-139A934D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09F2-EC08-4866-A74E-4E435206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A9AC-09CE-4C6C-89E8-70F86A20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69C5-5C9F-4CAB-816F-563D09D5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0189-4318-4262-A480-0D72B22D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1C9-50E5-4199-9F33-761B4831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D2D-C566-4B1F-BBE4-AF0179D1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45B-5592-4D19-B821-D5E80BB1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14C-34C4-4E45-A716-E802C701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483-9B5E-4801-8DFD-F72C1FE5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A74-C1C0-43AA-BCED-704A950D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C4E-076D-4CC3-9A9F-81E6C238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2180-E632-4922-AB32-430789D6D5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0882-00C8-42C0-9096-A2B8EE6A6B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8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8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FUNC</a:t>
            </a:r>
            <a:r>
              <a:rPr b="0" lang="ro-RO" sz="5800" spc="-1" strike="noStrike">
                <a:solidFill>
                  <a:srgbClr val="999900"/>
                </a:solidFill>
                <a:latin typeface="Garamond"/>
              </a:rPr>
              <a:t>ŢII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PROFESOR PANAET DUMITRU DANI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Verdan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UNCŢIA f:R</a:t>
            </a:r>
            <a:r>
              <a:rPr b="0" lang="ro-RO" sz="44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R, f(x)=ax+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eprezentarea geometrică a graficului este o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dreaptă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Este suficient să determinăm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două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puncte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ale graficulu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:R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, f(x)=x+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;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;4)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ficul este 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3280" y="1557360"/>
          <a:ext cx="41767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557360"/>
                    <a:ext cx="4176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859280" y="4653000"/>
            <a:ext cx="35290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372360" y="1773360"/>
            <a:ext cx="0" cy="40305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35640" y="4076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492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256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378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8000" y="220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72360" y="4292640"/>
            <a:ext cx="3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72360" y="4292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00720" y="1557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UNCŢIA f:I</a:t>
            </a:r>
            <a:r>
              <a:rPr b="0" lang="ro-RO" sz="40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R, f(x)=ax+b,              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   I-interval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a,b)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un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gment desch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[a,b]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un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gment 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înch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+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au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a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o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midreapt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his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[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+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au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a]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o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midreapt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în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his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3cc33"/>
                </a:solidFill>
                <a:latin typeface="Verdana"/>
              </a:rPr>
              <a:t>Exempl</a:t>
            </a:r>
            <a:r>
              <a:rPr b="0" lang="en-US" sz="1800" spc="-1" strike="noStrike">
                <a:solidFill>
                  <a:srgbClr val="33cc33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f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-1,2]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, f(x)=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-2);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;1)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ficul este [AB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f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-1,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, f(x)=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-2);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;1)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ficul este [A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716360" y="1600200"/>
          <a:ext cx="388800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600200"/>
                    <a:ext cx="3888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978440" y="3936960"/>
          <a:ext cx="3481200" cy="22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8440" y="3936960"/>
                    <a:ext cx="34812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5435640" y="5084640"/>
            <a:ext cx="2881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2637000"/>
            <a:ext cx="28796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948360" y="3860280"/>
            <a:ext cx="0" cy="2232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948360" y="1484280"/>
            <a:ext cx="0" cy="216072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88000" y="508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8800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948000" y="47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234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81200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2000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48360" y="3789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17236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17236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7708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77080" y="47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72360" y="32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67640" y="2060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00720" y="566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96360" y="4437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516720" y="2637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PUNCTELE DE INTERSEC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ŢIE ALE GRAFICULUI FUNCŢIEI f:R</a:t>
            </a:r>
            <a:r>
              <a:rPr b="0" lang="ro-RO" sz="28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R, f(x)=ax+b CU AXELE DE COORDONAT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INTERSECŢIA CU AXA O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INTERSECŢIA CU AXA O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f:R</a:t>
            </a:r>
            <a:r>
              <a:rPr b="0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R, f(x)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(0,-2);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;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610320" y="2585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48320" y="1778040"/>
          <a:ext cx="4027320" cy="43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8040"/>
                    <a:ext cx="402732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50920" y="2060640"/>
                <a:ext cx="4105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11280" y="3716280"/>
                <a:ext cx="3529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4716360" y="3933720"/>
            <a:ext cx="410364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300720" y="1844280"/>
            <a:ext cx="0" cy="40323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2764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17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45964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72360" y="50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77080" y="357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PUNCTUL DE 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INTERSECŢIE A GRAFICELOR A DOUĂ FUNCŢII f,g:R</a:t>
            </a:r>
            <a:r>
              <a:rPr b="0" lang="ro-RO" sz="28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R REPREZENTATE ÎN ACELAŞI SISTEM DE AX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Intersecţia celor două grafice este un element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;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re apar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ine ambelor gra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f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şi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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=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,g:R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)=3x-2, g(x)=-x+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x-2=-x+6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=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2)=4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2,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64976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4788000" y="4653000"/>
            <a:ext cx="388764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0360" y="1557360"/>
            <a:ext cx="0" cy="439272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59640" y="30686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40360" y="3068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59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43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1708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4036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59640" y="1628640"/>
            <a:ext cx="81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19640" y="17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EMPLE DE GRAFICE CE NU REPREZINTĂ FUNCŢI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Elementul  b din A nu are imagine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585120" y="2604960"/>
          <a:ext cx="1648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5120" y="260496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1981080" y="1981080"/>
            <a:ext cx="1371600" cy="2971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1676520"/>
            <a:ext cx="1828800" cy="32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514600" y="2362320"/>
          <a:ext cx="16524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36232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2362320" y="2820960"/>
          <a:ext cx="16488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82096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2286000" y="3429000"/>
          <a:ext cx="165240" cy="1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42900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590920" y="4114800"/>
          <a:ext cx="164880" cy="1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411480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324480" y="1981080"/>
          <a:ext cx="304920" cy="274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4480" y="1981080"/>
                    <a:ext cx="3049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6248520" y="2438280"/>
          <a:ext cx="304560" cy="27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243828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6248520" y="4191120"/>
          <a:ext cx="304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419112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6781680" y="2971800"/>
          <a:ext cx="304920" cy="274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2971800"/>
                    <a:ext cx="3049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6019920" y="3505320"/>
          <a:ext cx="304560" cy="27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19920" y="350532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743200" y="2438280"/>
            <a:ext cx="40384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514600" y="2133720"/>
            <a:ext cx="38098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743200" y="3657240"/>
            <a:ext cx="3276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7196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355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19320" y="338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2460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15360" y="1865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63080" y="23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72560" y="285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34480" y="34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38680" y="4075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91080" y="194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24840" y="1792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620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Lipseşte domeniul de definiţ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791320" y="1905120"/>
          <a:ext cx="1648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90512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4648320" y="762120"/>
            <a:ext cx="1676160" cy="320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10080" y="1143000"/>
          <a:ext cx="16524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14300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486400" y="2973240"/>
          <a:ext cx="16524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97324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5791320" y="2057400"/>
          <a:ext cx="164880" cy="1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205740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2286000" y="1981080"/>
          <a:ext cx="38088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1981080"/>
                    <a:ext cx="380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438280" y="2666880"/>
          <a:ext cx="38124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666880"/>
                    <a:ext cx="381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3429000" y="2286000"/>
          <a:ext cx="38088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2286000"/>
                    <a:ext cx="380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2362320" y="3962520"/>
          <a:ext cx="38088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3962520"/>
                    <a:ext cx="3808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 flipV="1">
            <a:off x="2666880" y="1294920"/>
            <a:ext cx="274320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809880" y="2133720"/>
            <a:ext cx="19051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743200" y="2819520"/>
            <a:ext cx="26668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743200" y="2209680"/>
            <a:ext cx="304812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196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3900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4792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71960" y="38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40480" y="1066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05880" y="194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4084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6272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ul c din A are două imagini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6603840" y="2630520"/>
          <a:ext cx="127080" cy="1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3840" y="263052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2286000" y="1066680"/>
            <a:ext cx="1523880" cy="3048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8680" y="1219320"/>
            <a:ext cx="1600200" cy="28191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819520" y="1447920"/>
          <a:ext cx="22860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4479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743200" y="1905120"/>
          <a:ext cx="22860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19051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2743200" y="2438280"/>
          <a:ext cx="2286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438280"/>
                    <a:ext cx="228600" cy="228600"/>
                  </a:xfrm>
                  <a:prstGeom prst="rect">
                    <a:avLst/>
                  </a:prstGeom>
                  <a:ln w="93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3124080" y="3352680"/>
          <a:ext cx="228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335268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6400800" y="1447920"/>
          <a:ext cx="380880" cy="34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144792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5943600" y="1828800"/>
          <a:ext cx="380880" cy="34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182880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6095880" y="3429000"/>
          <a:ext cx="381240" cy="344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3429000"/>
                    <a:ext cx="381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6705720" y="2819520"/>
          <a:ext cx="380880" cy="344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5720" y="281952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6477120" y="2209680"/>
          <a:ext cx="380880" cy="34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77120" y="220968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348280" y="954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163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6532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768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9764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67640" y="133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3448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68000" y="224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99660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86400" y="3465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6002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971800" y="1676520"/>
            <a:ext cx="34290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2590920"/>
            <a:ext cx="3809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71800" y="2666880"/>
            <a:ext cx="31240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352680" y="2438280"/>
            <a:ext cx="312444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Nu este sigur că elementul b din A are imagine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895480" y="3049560"/>
          <a:ext cx="40644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049560"/>
                    <a:ext cx="4064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2362320" y="1523880"/>
            <a:ext cx="1600200" cy="3124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838080"/>
            <a:ext cx="1600200" cy="3505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895480" y="1752480"/>
          <a:ext cx="36828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7524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2743200" y="2286000"/>
          <a:ext cx="406440" cy="3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286000"/>
                    <a:ext cx="406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2743200" y="2819520"/>
          <a:ext cx="368280" cy="33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8195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2895480" y="3809880"/>
          <a:ext cx="36828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8098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272916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53200" y="23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52480" y="277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291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82880" y="2514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67840" y="1463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315200" y="1219320"/>
          <a:ext cx="36828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5200" y="12193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7391520" y="3276720"/>
          <a:ext cx="36828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91520" y="32767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7467480" y="2133720"/>
          <a:ext cx="368280" cy="36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67480" y="21337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682040" y="1179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911000" y="209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75836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276720" y="1447920"/>
            <a:ext cx="4038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123720" y="2286000"/>
            <a:ext cx="4343400" cy="228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200400" y="2438280"/>
            <a:ext cx="426708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2971800"/>
            <a:ext cx="41911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lipseşte domeniul valori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743200" y="2744640"/>
          <a:ext cx="25416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744640"/>
                    <a:ext cx="2541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2286000" y="990720"/>
            <a:ext cx="1676520" cy="320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2819520" y="1295280"/>
          <a:ext cx="38088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2952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66880" y="1828800"/>
          <a:ext cx="381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82880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66880" y="2438280"/>
          <a:ext cx="38124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438280"/>
                    <a:ext cx="381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971800" y="3124080"/>
          <a:ext cx="38088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31240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1982880" y="150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6532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768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80548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019920" y="838080"/>
          <a:ext cx="368280" cy="33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8380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6858000" y="1523880"/>
          <a:ext cx="368280" cy="331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15238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5562720" y="2362320"/>
          <a:ext cx="368280" cy="33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3623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6400800" y="2895480"/>
          <a:ext cx="368280" cy="331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00800" y="28954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7924680" y="2590920"/>
          <a:ext cx="368280" cy="331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924680" y="25909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6310440" y="722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4888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853600" y="224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6800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15200" y="2627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124080" y="1066680"/>
            <a:ext cx="2895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71800" y="1981080"/>
            <a:ext cx="48769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3048120" y="1752480"/>
            <a:ext cx="3809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76720" y="2590920"/>
            <a:ext cx="22860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FINIŢ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ie A şi B două mulţimi. Dacă, printr-un procedeu oarecare, facem ca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oricărui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lement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din mulţimea A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să-i corespundă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un singur element din mulţimea B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, vom spune că am definit o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funcţie de la A la B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:A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, y=f(x), oricare ar fi x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, y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Componentele funcţie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=domeniul de defini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i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domeniul de valori (codomeniul)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=f(x) – legea de coresponden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RAFICUL UNEI FUNCŢI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809440"/>
            <a:ext cx="82296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Fi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: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, y=f(x)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ulţimea 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ro-RO" sz="2800" spc="-1" strike="noStrike" baseline="-25000">
                <a:solidFill>
                  <a:srgbClr val="ff0000"/>
                </a:solidFill>
                <a:latin typeface="Verdana"/>
              </a:rPr>
              <a:t>f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{(x,y)/ x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, y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, y=f(x)}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 nume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şte 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graficul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funcţiei 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ficul une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funcţii poate fi reprezentat într-un sistem ortogonal de axe xo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990720"/>
            <a:ext cx="2133360" cy="457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914400"/>
            <a:ext cx="1981080" cy="4724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92440" y="17892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08520" y="2319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97200" y="3193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68560" y="42400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40080" y="5049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03760" y="29163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84600" y="433404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828800" y="2209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3048120"/>
          <a:ext cx="3301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04812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752480" y="4114800"/>
          <a:ext cx="3859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114800"/>
                    <a:ext cx="385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424240" y="1676520"/>
          <a:ext cx="3873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4240" y="1676520"/>
                    <a:ext cx="387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666880" y="2743200"/>
          <a:ext cx="38592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2743200"/>
                    <a:ext cx="385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590920" y="4343400"/>
          <a:ext cx="33156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4343400"/>
                    <a:ext cx="3315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209680" y="5029200"/>
          <a:ext cx="331920" cy="45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5029200"/>
                    <a:ext cx="331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705720" y="1752480"/>
            <a:ext cx="685800" cy="685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25909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4419720"/>
            <a:ext cx="53352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657600"/>
            <a:ext cx="990360" cy="380880"/>
          </a:xfrm>
          <a:prstGeom prst="parallelogram">
            <a:avLst>
              <a:gd name="adj" fmla="val 650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514600"/>
            <a:ext cx="4800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71800" y="4038120"/>
            <a:ext cx="35053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286000" y="2361960"/>
            <a:ext cx="441972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666880" y="4876920"/>
            <a:ext cx="39625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22856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1905120"/>
            <a:ext cx="37339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124080"/>
            <a:ext cx="4419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GRAFICUL  UNEI  FUNC</a:t>
            </a:r>
            <a:r>
              <a:rPr b="0" lang="ro-RO" sz="3600" spc="-1" strike="noStrike">
                <a:solidFill>
                  <a:srgbClr val="cc9900"/>
                </a:solidFill>
                <a:latin typeface="Arial"/>
              </a:rPr>
              <a:t>Ţ</a:t>
            </a: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0666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92960" y="990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62920" y="1447920"/>
          <a:ext cx="55080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1447920"/>
                    <a:ext cx="550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7467480" y="2590920"/>
          <a:ext cx="594000" cy="76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67480" y="2590920"/>
                    <a:ext cx="594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238880" y="3581280"/>
          <a:ext cx="533520" cy="685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3581280"/>
                    <a:ext cx="53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086600" y="4419720"/>
          <a:ext cx="474840" cy="610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86600" y="4419720"/>
                    <a:ext cx="47484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143000" y="5524560"/>
          <a:ext cx="762120" cy="495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43000" y="5524560"/>
                    <a:ext cx="762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066680" y="6014880"/>
          <a:ext cx="91440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66680" y="6014880"/>
                    <a:ext cx="914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057040" y="561348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ila independe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2640" y="607068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ariabila depende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EMPLE  DE  GRAFICE  DE FUNCŢI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597720" y="2617920"/>
          <a:ext cx="1396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61792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981080" y="1752480"/>
            <a:ext cx="1524240" cy="2362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1676520"/>
            <a:ext cx="1371600" cy="2514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67040" y="1636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24840" y="1636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90920" y="2057400"/>
          <a:ext cx="139680" cy="15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05740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843280" y="3789360"/>
          <a:ext cx="139680" cy="15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378936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590920" y="3124080"/>
          <a:ext cx="139680" cy="15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3124080"/>
                    <a:ext cx="1396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629400" y="2057400"/>
          <a:ext cx="127080" cy="12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205740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58000" y="2743200"/>
          <a:ext cx="127080" cy="1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274320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629400" y="3581280"/>
          <a:ext cx="127080" cy="12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358128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36412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87880" y="296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744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67280" y="186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9588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0" y="346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21337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3200400"/>
            <a:ext cx="37335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059280" y="2781360"/>
            <a:ext cx="3600360" cy="101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7040" y="5105520"/>
            <a:ext cx="71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048120" y="2973240"/>
          <a:ext cx="13968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3240"/>
                    <a:ext cx="1396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438280" y="914400"/>
            <a:ext cx="1219320" cy="2666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824600">
            <a:off x="4533840" y="1104480"/>
            <a:ext cx="2819160" cy="121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8307200">
            <a:off x="5715000" y="3276000"/>
            <a:ext cx="25146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1143000"/>
          <a:ext cx="209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1430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819520" y="1676520"/>
          <a:ext cx="2095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167652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749680" y="2286000"/>
          <a:ext cx="20952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9680" y="22860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971800" y="2895480"/>
          <a:ext cx="20952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289548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867280" y="762120"/>
            <a:ext cx="7632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1371600"/>
            <a:ext cx="7632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2057400"/>
            <a:ext cx="7596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3124080"/>
            <a:ext cx="7632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4038480"/>
            <a:ext cx="7596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29160" y="102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904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765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0548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05520" y="56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1480" y="117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81480" y="194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16640" y="29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96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24080" y="838080"/>
            <a:ext cx="26672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276720" y="1523880"/>
            <a:ext cx="259056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828800"/>
            <a:ext cx="3581280" cy="22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2438280"/>
            <a:ext cx="41911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95640" y="1387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54880" y="817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81680" y="3292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3240" y="4270320"/>
            <a:ext cx="48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9560" y="518472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4680" y="6022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B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16760" y="4724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3080" y="571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609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7724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ţie definită pe B cu valori în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597720" y="2617920"/>
          <a:ext cx="1396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61792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362320" y="838080"/>
            <a:ext cx="1600200" cy="327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1295280"/>
            <a:ext cx="1523880" cy="3048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971800" y="1295280"/>
          <a:ext cx="209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29528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95480" y="1905120"/>
          <a:ext cx="2095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190512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66880" y="2514600"/>
          <a:ext cx="20952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5146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200400" y="3200400"/>
          <a:ext cx="20952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32004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705720" y="182880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2666880"/>
            <a:ext cx="152280" cy="1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365760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2916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2916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5776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19920" y="1636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43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3960" y="3541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429000" y="1981080"/>
            <a:ext cx="32004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200040" y="1447920"/>
            <a:ext cx="34290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895480" y="2590560"/>
            <a:ext cx="3657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43560" y="6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1160" y="110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)funcţie definită pe A cu valori în B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(funcţie constantă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676520"/>
            <a:ext cx="1600200" cy="350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1143000" cy="3429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33880" y="163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34480" y="148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4080" y="2855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2057400"/>
            <a:ext cx="152280" cy="15228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2590920"/>
            <a:ext cx="152640" cy="15228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4267080"/>
            <a:ext cx="152280" cy="15264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3352680"/>
            <a:ext cx="152280" cy="15264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604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7196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666880" y="3276360"/>
            <a:ext cx="3048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286000" y="3200040"/>
            <a:ext cx="3352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2666880"/>
            <a:ext cx="3657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2133720"/>
            <a:ext cx="3429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638680" y="2971800"/>
          <a:ext cx="4572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457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FUNCŢIA f:A</a:t>
            </a:r>
            <a:r>
              <a:rPr b="0" lang="ro-RO" sz="44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R, f(x)=ax+b,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                    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A-mulţime finit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eprezentarea geometrică a graficului este o mulţime de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puncte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colini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:{-2,0,1,2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,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x)=x+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-2,1);B(0;3);C(1;4); D(2;5);E(3;6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716360" y="1562040"/>
          <a:ext cx="410364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62040"/>
                    <a:ext cx="410364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859280" y="4797360"/>
            <a:ext cx="38163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724360" y="1628280"/>
            <a:ext cx="0" cy="4032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4328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321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8472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1672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1844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4365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4365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24360" y="306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263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3068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88000" y="270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48360" y="227664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4360" y="220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4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44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51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6:45:49Z</dcterms:created>
  <dc:creator>Nicoleta</dc:creator>
  <dc:description/>
  <cp:keywords/>
  <dc:language>en-US</dc:language>
  <cp:lastModifiedBy>xp</cp:lastModifiedBy>
  <dcterms:modified xsi:type="dcterms:W3CDTF">2011-01-05T12:36:17Z</dcterms:modified>
  <cp:revision>8</cp:revision>
  <dc:subject/>
  <dc:title>FUNCŢ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31033</vt:lpwstr>
  </property>
</Properties>
</file>