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D79-545F-4BD6-91F3-17FCCF1B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71E-3074-4952-ABCE-E7BFBB11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357-2785-4C6C-8C5B-DDE610FF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77F-9A49-4E25-8273-63D558E0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C70-7322-4374-929E-1077891E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A56C-A86F-47B3-AC52-E9AE7459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E9F-57B2-4D21-9A38-7CD44D1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783-B589-4653-8E08-CC18FF2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9D4D-2E65-4EB2-84D8-3B9B68A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7573-AA6B-40FC-8275-2FAF5C6B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7129-75EB-4BB6-8408-30D88BB0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439-E8F8-4C79-9F51-90B93FD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F3C-21B5-40AE-B627-CFA7CB4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D889-8216-4DCC-9968-CE6DDF2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3706-CA3F-49D4-8BE5-196F689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683-9464-4580-BFB7-BCDF0C0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13A-3452-4874-804C-908DE4EF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949C-AE31-4BA6-A784-876B938B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0FC-9A58-4BF3-83CC-5BF33C54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435-67E7-4B2E-85E7-27B8338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0B5-DB67-494B-A086-D4972218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FEE-E6D1-4B79-BFEB-984AF435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B91-137A-4206-A73F-4C95845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071-A1FB-4A8B-BAF2-A7E8F5D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B7D-2961-4EC9-8A6B-79CAB07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581-9FEB-40F9-B3F3-01BE7963D5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53D-5404-46F5-873F-A15380CC59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8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UNC</a:t>
            </a:r>
            <a:r>
              <a:rPr b="0" lang="ro-RO" sz="5800" spc="-1" strike="noStrike">
                <a:solidFill>
                  <a:srgbClr val="999900"/>
                </a:solidFill>
                <a:latin typeface="Garamond"/>
              </a:rPr>
              <a:t>ŢII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ROFESOR PANAET DUMITRU DANI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Verdan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UNCŢIA f:R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reapt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ste suficient să determinăm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ale graficulu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 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;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;4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ficul este 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3280" y="1557360"/>
          <a:ext cx="4176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176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9280" y="4653000"/>
            <a:ext cx="35290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72360" y="1773360"/>
            <a:ext cx="0" cy="4030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40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492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78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429264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7236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00720" y="155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UNCŢIA f:I</a:t>
            </a:r>
            <a:r>
              <a:rPr b="0" lang="ro-RO" sz="40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R, f(x)=ax+b,              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000" spc="-1" strike="noStrike">
                <a:solidFill>
                  <a:srgbClr val="999900"/>
                </a:solidFill>
                <a:latin typeface="Garamond"/>
              </a:rPr>
              <a:t>   I-interval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,b)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des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,b]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un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gment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ch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acă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[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+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au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=(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a]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ficul este o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emidreapt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his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cc33"/>
                </a:solidFill>
                <a:latin typeface="Verdana"/>
              </a:rPr>
              <a:t>Exempl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2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, f(x)=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(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-2);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;1)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ficul este [A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16360" y="1600200"/>
          <a:ext cx="38880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600200"/>
                    <a:ext cx="3888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978440" y="3936960"/>
          <a:ext cx="3481200" cy="22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3936960"/>
                    <a:ext cx="34812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5435640" y="5084640"/>
            <a:ext cx="2881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2637000"/>
            <a:ext cx="28796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948360" y="3860280"/>
            <a:ext cx="0" cy="22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48360" y="1484280"/>
            <a:ext cx="0" cy="216072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948000" y="47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12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000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8360" y="3789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7236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7236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080" y="47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236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0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0072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96360" y="4437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1672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ELE DE INTERSEC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ŢIE ALE GRAFICULUI FUNCŢIEI f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, f(x)=ax+b CU AXELE DE COORDONAT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INTERSECŢIA CU AXA O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o-RO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:R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R, f(x)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(0,-2);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;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48320" y="1778040"/>
          <a:ext cx="40273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8040"/>
                    <a:ext cx="40273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0920" y="2060640"/>
                <a:ext cx="41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11280" y="3716280"/>
                <a:ext cx="352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716360" y="3933720"/>
            <a:ext cx="4103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300720" y="1844280"/>
            <a:ext cx="0" cy="40323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764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5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7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7708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PUNCTUL DE 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INTERSECŢIE A GRAFICELOR A DOUĂ FUNCŢII f,g:R</a:t>
            </a:r>
            <a:r>
              <a:rPr b="0" lang="ro-RO" sz="28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2800" spc="-1" strike="noStrike">
                <a:solidFill>
                  <a:srgbClr val="999900"/>
                </a:solidFill>
                <a:latin typeface="Garamond"/>
              </a:rPr>
              <a:t>R REPREZENTATE ÎN ACELAŞI SISTEM DE AXE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Intersecţia celor două grafice este un element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;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re apar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ne ambelor gra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ş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 =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,g:R</a:t>
            </a:r>
            <a:r>
              <a:rPr b="0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)=3x-2, g(x)=-x+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x-2=-x+6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=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2)=4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2,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788000" y="4653000"/>
            <a:ext cx="388764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0360" y="1557360"/>
            <a:ext cx="0" cy="439272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5964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036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59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59640" y="1628640"/>
            <a:ext cx="81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17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DE GRAFICE CE NU REPREZINTĂ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Elementul  b din A nu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585120" y="260496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5120" y="2604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1981080" y="1981080"/>
            <a:ext cx="1371600" cy="2971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1676520"/>
            <a:ext cx="1828800" cy="327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14600" y="236232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362320" y="2820960"/>
          <a:ext cx="1648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2096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286000" y="3429000"/>
          <a:ext cx="16524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429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90920" y="4114800"/>
          <a:ext cx="1648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41148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24480" y="1981080"/>
          <a:ext cx="304920" cy="27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198108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248520" y="2438280"/>
          <a:ext cx="304560" cy="27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43828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248520" y="4191120"/>
          <a:ext cx="304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41911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781680" y="2971800"/>
          <a:ext cx="304920" cy="27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2971800"/>
                    <a:ext cx="304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019920" y="3505320"/>
          <a:ext cx="304560" cy="27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9920" y="3505320"/>
                    <a:ext cx="304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743200" y="2438280"/>
            <a:ext cx="4038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14600" y="2133720"/>
            <a:ext cx="38098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743200" y="3657240"/>
            <a:ext cx="32767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7196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55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19320" y="338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2460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15360" y="186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6308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725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480" y="34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38680" y="4075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9108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24840" y="1792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620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de definiţ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791320" y="1905120"/>
          <a:ext cx="1648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4648320" y="762120"/>
            <a:ext cx="167616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10080" y="1143000"/>
          <a:ext cx="16524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14300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486400" y="2973240"/>
          <a:ext cx="16524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973240"/>
                    <a:ext cx="165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791320" y="2057400"/>
          <a:ext cx="16488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205740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86000" y="1981080"/>
          <a:ext cx="3808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8108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438280" y="2666880"/>
          <a:ext cx="38124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666880"/>
                    <a:ext cx="381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429000" y="2286000"/>
          <a:ext cx="38088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286000"/>
                    <a:ext cx="380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62320" y="3962520"/>
          <a:ext cx="38088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962520"/>
                    <a:ext cx="380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 flipV="1">
            <a:off x="2666880" y="1294920"/>
            <a:ext cx="274320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809880" y="2133720"/>
            <a:ext cx="1905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2819520"/>
            <a:ext cx="2666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743200" y="2209680"/>
            <a:ext cx="304812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196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3900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792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7196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40480" y="1066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0588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408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6272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ul c din A are două imagini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03840" y="2630520"/>
          <a:ext cx="127080" cy="1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3840" y="263052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286000" y="10666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1219320"/>
            <a:ext cx="1600200" cy="2819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819520" y="1447920"/>
          <a:ext cx="2286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4479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743200" y="1905120"/>
          <a:ext cx="2286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190512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2743200" y="2438280"/>
          <a:ext cx="2286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438280"/>
                    <a:ext cx="228600" cy="22860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124080" y="3352680"/>
          <a:ext cx="228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33526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400800" y="1447920"/>
          <a:ext cx="380880" cy="34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14479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943600" y="1828800"/>
          <a:ext cx="38088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182880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6095880" y="3429000"/>
          <a:ext cx="38124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3429000"/>
                    <a:ext cx="381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6705720" y="2819520"/>
          <a:ext cx="38088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281952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6477120" y="2209680"/>
          <a:ext cx="380880" cy="34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77120" y="2209680"/>
                    <a:ext cx="3808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348280" y="95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764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67640" y="13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34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680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966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86400" y="346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6002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676520"/>
            <a:ext cx="3429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2590920"/>
            <a:ext cx="3809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71800" y="2666880"/>
            <a:ext cx="3124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352680" y="2438280"/>
            <a:ext cx="312444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Nu este sigur că elementul b din A are imagine în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895480" y="3049560"/>
          <a:ext cx="4064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560"/>
                    <a:ext cx="4064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362320" y="1523880"/>
            <a:ext cx="1600200" cy="3124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838080"/>
            <a:ext cx="1600200" cy="3505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95480" y="1752480"/>
          <a:ext cx="3682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52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743200" y="2286000"/>
          <a:ext cx="40644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286000"/>
                    <a:ext cx="406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743200" y="2819520"/>
          <a:ext cx="36828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195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895480" y="3809880"/>
          <a:ext cx="3682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27291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5320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2480" y="27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291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28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67840" y="1463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315200" y="1219320"/>
          <a:ext cx="36828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12193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7391520" y="3276720"/>
          <a:ext cx="368280" cy="36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3276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7467480" y="2133720"/>
          <a:ext cx="368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213372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682040" y="117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11000" y="209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75836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76720" y="1447920"/>
            <a:ext cx="4038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123720" y="2286000"/>
            <a:ext cx="4343400" cy="228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200400" y="2438280"/>
            <a:ext cx="42670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2971800"/>
            <a:ext cx="41911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lipseşte domeniul valori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2743200" y="2744640"/>
          <a:ext cx="25416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744640"/>
                    <a:ext cx="2541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2286000" y="990720"/>
            <a:ext cx="1676520" cy="320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819520" y="1295280"/>
          <a:ext cx="3808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2952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66880" y="18288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8288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66880" y="2438280"/>
          <a:ext cx="38124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4382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971800" y="3124080"/>
          <a:ext cx="3808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1240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1982880" y="150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532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768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0548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019920" y="838080"/>
          <a:ext cx="36828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8380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6858000" y="1523880"/>
          <a:ext cx="368280" cy="33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15238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5562720" y="2362320"/>
          <a:ext cx="368280" cy="33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3623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6400800" y="2895480"/>
          <a:ext cx="368280" cy="33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00800" y="2895480"/>
                    <a:ext cx="368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924680" y="2590920"/>
          <a:ext cx="368280" cy="33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24680" y="2590920"/>
                    <a:ext cx="3682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310440" y="722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488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5360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6800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15200" y="2627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066680"/>
            <a:ext cx="2895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1981080"/>
            <a:ext cx="4876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048120" y="1752480"/>
            <a:ext cx="3809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76720" y="2590920"/>
            <a:ext cx="22860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FINIŢ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Fie A şi B două mulţimi. Dacă, printr-un procedeu oarecare, facem ca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oricăru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lemen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din mulţimea 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să-i corespundă </a:t>
            </a: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un singur element din mulţime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, vom spune că am definit o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funcţie de la A la B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:A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, y=f(x), oricare ar fi x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Componentele funcţie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=domeniul de defini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domeniul de valori (codomeniul)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=f(x) – legea de coresponden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ţ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FICUL UNEI FUNCŢI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80944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: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, y=f(x)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Verdana"/>
              </a:rPr>
              <a:t>f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{(x,y)/ x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, y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, y=f(x)}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num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şte </a:t>
            </a:r>
            <a:r>
              <a:rPr b="0" lang="ro-RO" sz="2800" spc="-1" strike="noStrike">
                <a:solidFill>
                  <a:srgbClr val="ff0000"/>
                </a:solidFill>
                <a:latin typeface="Verdana"/>
              </a:rPr>
              <a:t>graficul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ei 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ficul une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funcţii poate fi reprezentat într-un sistem ortogonal de axe xo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990720"/>
            <a:ext cx="2133360" cy="457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914400"/>
            <a:ext cx="1981080" cy="4724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92440" y="17892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8520" y="2319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7200" y="3193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68560" y="42400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080" y="5049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03760" y="29163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84600" y="43340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209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3048120"/>
          <a:ext cx="330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04812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4114800"/>
          <a:ext cx="3859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148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424240" y="1676520"/>
          <a:ext cx="387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4240" y="1676520"/>
                    <a:ext cx="387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2743200"/>
          <a:ext cx="3859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743200"/>
                    <a:ext cx="385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343400"/>
          <a:ext cx="3315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343400"/>
                    <a:ext cx="3315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029200"/>
          <a:ext cx="331920" cy="45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5029200"/>
                    <a:ext cx="331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705720" y="1752480"/>
            <a:ext cx="685800" cy="685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590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197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657600"/>
            <a:ext cx="990360" cy="380880"/>
          </a:xfrm>
          <a:prstGeom prst="parallelogram">
            <a:avLst>
              <a:gd name="adj" fmla="val 650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514600"/>
            <a:ext cx="4800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4038120"/>
            <a:ext cx="3505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86000" y="2361960"/>
            <a:ext cx="4419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666880" y="4876920"/>
            <a:ext cx="3962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2856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905120"/>
            <a:ext cx="37339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124080"/>
            <a:ext cx="4419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GRAFICUL  UNEI  FUNC</a:t>
            </a:r>
            <a:r>
              <a:rPr b="0" lang="ro-RO" sz="3600" spc="-1" strike="noStrike">
                <a:solidFill>
                  <a:srgbClr val="cc9900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066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2960" y="990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62920" y="1447920"/>
          <a:ext cx="55080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1447920"/>
                    <a:ext cx="550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467480" y="2590920"/>
          <a:ext cx="59400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2590920"/>
                    <a:ext cx="594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238880" y="3581280"/>
          <a:ext cx="53352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3581280"/>
                    <a:ext cx="533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086600" y="4419720"/>
          <a:ext cx="474840" cy="610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4419720"/>
                    <a:ext cx="474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5524560"/>
          <a:ext cx="762120" cy="49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5524560"/>
                    <a:ext cx="762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66680" y="6014880"/>
          <a:ext cx="91440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66680" y="6014880"/>
                    <a:ext cx="914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057040" y="5613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a in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607068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ariabila depende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EMPLE  DE  GRAFICE  DE FUNCŢII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81080" y="1752480"/>
            <a:ext cx="152424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1676520"/>
            <a:ext cx="1371600" cy="2514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70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4840" y="1636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2057400"/>
          <a:ext cx="1396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05740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3280" y="3789360"/>
          <a:ext cx="1396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78936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90920" y="3124080"/>
          <a:ext cx="139680" cy="15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12408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629400" y="2057400"/>
          <a:ext cx="127080" cy="1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20574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0" y="2743200"/>
          <a:ext cx="127080" cy="1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74320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629400" y="3581280"/>
          <a:ext cx="127080" cy="12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3581280"/>
                    <a:ext cx="12708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36412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7880" y="296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744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7280" y="18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588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0" y="346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1337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00400"/>
            <a:ext cx="3733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59280" y="2781360"/>
            <a:ext cx="360036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7040" y="5105520"/>
            <a:ext cx="71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048120" y="2973240"/>
          <a:ext cx="1396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3240"/>
                    <a:ext cx="1396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438280" y="914400"/>
            <a:ext cx="1219320" cy="2666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824600">
            <a:off x="4533840" y="1104480"/>
            <a:ext cx="2819160" cy="1218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8307200">
            <a:off x="5715000" y="3276000"/>
            <a:ext cx="25146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114300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143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819520" y="16765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16765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749680" y="22860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9680" y="22860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971800" y="289548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8954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76212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1371600"/>
            <a:ext cx="763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057400"/>
            <a:ext cx="7596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124080"/>
            <a:ext cx="763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038480"/>
            <a:ext cx="7596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29160" y="102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90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765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548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5520" y="56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1480" y="117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148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664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9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24080" y="838080"/>
            <a:ext cx="26672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76720" y="1523880"/>
            <a:ext cx="259056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828800"/>
            <a:ext cx="358128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438280"/>
            <a:ext cx="41911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387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4880" y="817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81680" y="3292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3240" y="42703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9560" y="518472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4680" y="6022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ţie definită pe A cu valori în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16760" y="4724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3080" y="571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609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ţie definită pe B cu valori în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597720" y="261792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61792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362320" y="838080"/>
            <a:ext cx="1600200" cy="327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1295280"/>
            <a:ext cx="1523880" cy="3048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971800" y="1295280"/>
          <a:ext cx="209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29528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95480" y="1905120"/>
          <a:ext cx="2095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90512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66880" y="2514600"/>
          <a:ext cx="209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5146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200400" y="3200400"/>
          <a:ext cx="2095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200400"/>
                    <a:ext cx="209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705720" y="18288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65760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2916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916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0200" y="239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5776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9920" y="1636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3960" y="3541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29000" y="1981080"/>
            <a:ext cx="32004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200040" y="1447920"/>
            <a:ext cx="34290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895480" y="2590560"/>
            <a:ext cx="3657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356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1160" y="110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funcţie definită pe A cu valori în B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(funcţie constant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676520"/>
            <a:ext cx="1600200" cy="350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1143000" cy="3429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388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34480" y="14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4080" y="2855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057400"/>
            <a:ext cx="15228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590920"/>
            <a:ext cx="152640" cy="15228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2670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352680"/>
            <a:ext cx="152280" cy="15264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60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71960" y="42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666880" y="3276360"/>
            <a:ext cx="3048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86000" y="320004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2666880"/>
            <a:ext cx="3657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2133720"/>
            <a:ext cx="3429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638680" y="2971800"/>
          <a:ext cx="4572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572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FUNCŢIA f:A</a:t>
            </a:r>
            <a:r>
              <a:rPr b="0" lang="ro-RO" sz="4400" spc="-1" strike="noStrike">
                <a:solidFill>
                  <a:srgbClr val="999900"/>
                </a:solidFill>
                <a:latin typeface="Symbol"/>
                <a:ea typeface="Symbol"/>
              </a:rPr>
              <a:t>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R, f(x)=ax+b,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o-RO" sz="4400" spc="-1" strike="noStrike">
                <a:solidFill>
                  <a:srgbClr val="999900"/>
                </a:solidFill>
                <a:latin typeface="Garamond"/>
              </a:rPr>
              <a:t>A-mulţime finit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Reprezentarea geometrică a graficului este o mulţime de </a:t>
            </a: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punct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lini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Verdana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:{-2,0,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,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x)=x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-2,1);B(0;3);C(1;4); D(2;5);E(3;6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16360" y="1562040"/>
          <a:ext cx="410364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62040"/>
                    <a:ext cx="410364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859280" y="4797360"/>
            <a:ext cx="381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24360" y="1628280"/>
            <a:ext cx="0" cy="4032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7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3068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227664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44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1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45:49Z</dcterms:created>
  <dc:creator>Nicoleta</dc:creator>
  <dc:description/>
  <cp:keywords/>
  <dc:language>en-US</dc:language>
  <cp:lastModifiedBy>xp</cp:lastModifiedBy>
  <dcterms:modified xsi:type="dcterms:W3CDTF">2011-01-05T12:36:17Z</dcterms:modified>
  <cp:revision>8</cp:revision>
  <dc:subject/>
  <dc:title>FUNCŢ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31033</vt:lpwstr>
  </property>
</Properties>
</file>