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D3D3-9396-41B1-8060-A8C035365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5CC-F073-4633-A544-DF5594BB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A40-505B-4200-9589-B711B63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2F2-7A89-4B02-92E1-EDB9633A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D4E-E0F8-451A-9918-C9EC6A09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0E4-F443-4AF2-A771-AF552240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ACA8-7459-4450-99E8-FE89569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D0A7-5FD3-4BD2-AD1F-FF34F9B9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6972-C682-49DD-A532-99FE6173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563-8D1F-499E-B2A5-62DC714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35B6-1C23-4423-845B-A3BD36E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8D9-1DB7-4E61-9CAB-21F9472F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A58-AE62-49C0-A814-CADB18F6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FA17-F93B-4058-B758-06B313D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FB0-0C22-43CB-86A1-822F634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93F4-A1A2-4E45-BE71-7FE8AFCA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ECB-A37A-417A-8B1E-DBAC5131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5D3A-EF98-43F6-BFDF-D7C3B9FB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11E-B5E1-4DE9-87DE-4BB1961E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7EB-E3D3-4198-8F0D-3246C4E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168-00FF-453B-9A2C-48747C6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441-916F-42A5-9622-3C6321A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EC4-BF91-4497-B72E-C690979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A2C-1CAA-4131-83FB-683832E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538-E4C3-483C-9CCF-8C1BF99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275-9449-4859-A2EB-D9A3508A95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E38-FBFA-46BD-BB26-8306C51A01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8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FUNC</a:t>
            </a:r>
            <a:r>
              <a:rPr b="0" lang="ro-RO" sz="5800" spc="-1" strike="noStrike">
                <a:solidFill>
                  <a:srgbClr val="999900"/>
                </a:solidFill>
                <a:latin typeface="Garamond"/>
              </a:rPr>
              <a:t>ŢII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ROFESOR PANAET DUMITRU DANI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Verdan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UNCŢIA f:R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reapt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ste suficient să determinăm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ou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ale graficulu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 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;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;4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ficul este 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3280" y="1557360"/>
          <a:ext cx="4176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176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859280" y="4653000"/>
            <a:ext cx="35290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72360" y="1773360"/>
            <a:ext cx="0" cy="4030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40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49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78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429264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7236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155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UNCŢIA f:I</a:t>
            </a:r>
            <a:r>
              <a:rPr b="0" lang="ro-RO" sz="40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R, f(x)=ax+b,              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   I-interval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,b)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des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,b]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]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cc33"/>
                </a:solidFill>
                <a:latin typeface="Verdana"/>
              </a:rPr>
              <a:t>Exempl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2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16360" y="1600200"/>
          <a:ext cx="38880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600200"/>
                    <a:ext cx="3888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978440" y="3936960"/>
          <a:ext cx="3481200" cy="22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3936960"/>
                    <a:ext cx="34812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5435640" y="5084640"/>
            <a:ext cx="2881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2637000"/>
            <a:ext cx="28796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948360" y="3860280"/>
            <a:ext cx="0" cy="22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948360" y="1484280"/>
            <a:ext cx="0" cy="21607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8800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948000" y="47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12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000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8360" y="378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7236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7236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77080" y="47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7236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0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00720" y="566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96360" y="4437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1672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ELE DE INTERSEC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ŢIE ALE GRAFICULUI FUNCŢIEI f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, f(x)=ax+b CU AXELE DE COORDONAT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R, f(x)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(0,-2);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;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48320" y="1778040"/>
          <a:ext cx="40273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8040"/>
                    <a:ext cx="40273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0920" y="2060640"/>
                <a:ext cx="41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11280" y="3716280"/>
                <a:ext cx="3529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716360" y="3933720"/>
            <a:ext cx="4103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300720" y="1844280"/>
            <a:ext cx="0" cy="40323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59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7236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7708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UL DE 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INTERSECŢIE A GRAFICELOR A DOUĂ FUNCŢII f,g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 REPREZENTATE ÎN ACELAŞI SISTEM DE AX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Intersecţia celor două grafice este un element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;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re apar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ne ambelor gra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ş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,g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)=3x-2, g(x)=-x+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x-2=-x+6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=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2)=4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2,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788000" y="4653000"/>
            <a:ext cx="3887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0360" y="1557360"/>
            <a:ext cx="0" cy="43927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59640" y="306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036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59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59640" y="1628640"/>
            <a:ext cx="8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17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DE GRAFICE CE NU REPREZINTĂ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lementul  b din A nu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585120" y="260496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5120" y="2604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1981080" y="1981080"/>
            <a:ext cx="1371600" cy="297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1676520"/>
            <a:ext cx="1828800" cy="32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14600" y="236232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362320" y="2820960"/>
          <a:ext cx="16488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20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286000" y="3429000"/>
          <a:ext cx="16524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429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590920" y="4114800"/>
          <a:ext cx="1648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1148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324480" y="1981080"/>
          <a:ext cx="304920" cy="27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198108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248520" y="2438280"/>
          <a:ext cx="304560" cy="27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43828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248520" y="4191120"/>
          <a:ext cx="304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41911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781680" y="2971800"/>
          <a:ext cx="304920" cy="27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297180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019920" y="3505320"/>
          <a:ext cx="304560" cy="27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9920" y="35053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743200" y="2438280"/>
            <a:ext cx="4038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14600" y="2133720"/>
            <a:ext cx="38098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743200" y="3657240"/>
            <a:ext cx="3276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7196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55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19320" y="338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246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15360" y="186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6308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725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448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38680" y="4075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9108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24840" y="1792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620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de definiţ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791320" y="190512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9051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4648320" y="762120"/>
            <a:ext cx="167616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10080" y="114300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143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486400" y="2973240"/>
          <a:ext cx="16524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97324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791320" y="2057400"/>
          <a:ext cx="16488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20574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86000" y="1981080"/>
          <a:ext cx="38088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98108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438280" y="2666880"/>
          <a:ext cx="38124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666880"/>
                    <a:ext cx="381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429000" y="2286000"/>
          <a:ext cx="38088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28600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362320" y="3962520"/>
          <a:ext cx="38088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962520"/>
                    <a:ext cx="380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 flipV="1">
            <a:off x="2666880" y="1294920"/>
            <a:ext cx="27432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809880" y="2133720"/>
            <a:ext cx="19051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2819520"/>
            <a:ext cx="2666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743200" y="2209680"/>
            <a:ext cx="304812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196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3900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792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7196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40480" y="1066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0588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408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6272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ul c din A are două imagini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603840" y="2630520"/>
          <a:ext cx="127080" cy="1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3840" y="263052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286000" y="10666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1219320"/>
            <a:ext cx="1600200" cy="2819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819520" y="1447920"/>
          <a:ext cx="2286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447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743200" y="1905120"/>
          <a:ext cx="2286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19051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743200" y="2438280"/>
          <a:ext cx="2286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438280"/>
                    <a:ext cx="228600" cy="22860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124080" y="3352680"/>
          <a:ext cx="228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335268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400800" y="1447920"/>
          <a:ext cx="38088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14479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943600" y="1828800"/>
          <a:ext cx="38088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182880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6095880" y="3429000"/>
          <a:ext cx="38124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3429000"/>
                    <a:ext cx="381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6705720" y="2819520"/>
          <a:ext cx="38088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28195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6477120" y="2209680"/>
          <a:ext cx="380880" cy="34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77120" y="220968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348280" y="954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764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67640" y="133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34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680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966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86400" y="346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6002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676520"/>
            <a:ext cx="3429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2590920"/>
            <a:ext cx="3809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1800" y="2666880"/>
            <a:ext cx="3124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352680" y="2438280"/>
            <a:ext cx="312444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Nu este sigur că elementul b din A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95480" y="3049560"/>
          <a:ext cx="4064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560"/>
                    <a:ext cx="4064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362320" y="1523880"/>
            <a:ext cx="1600200" cy="3124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838080"/>
            <a:ext cx="1600200" cy="3505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895480" y="1752480"/>
          <a:ext cx="36828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52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2743200" y="2286000"/>
          <a:ext cx="40644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286000"/>
                    <a:ext cx="406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743200" y="2819520"/>
          <a:ext cx="36828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8195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895480" y="3809880"/>
          <a:ext cx="36828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27291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5320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2480" y="277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291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288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67840" y="1463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315200" y="1219320"/>
          <a:ext cx="36828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12193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391520" y="3276720"/>
          <a:ext cx="3682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3276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7467480" y="2133720"/>
          <a:ext cx="36828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2133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682040" y="117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11000" y="209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75836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76720" y="1447920"/>
            <a:ext cx="4038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123720" y="2286000"/>
            <a:ext cx="4343400" cy="228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200400" y="2438280"/>
            <a:ext cx="426708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2971800"/>
            <a:ext cx="41911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valori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743200" y="2744640"/>
          <a:ext cx="25416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744640"/>
                    <a:ext cx="2541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2286000" y="990720"/>
            <a:ext cx="167652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819520" y="1295280"/>
          <a:ext cx="3808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2952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66880" y="182880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8288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66880" y="2438280"/>
          <a:ext cx="38124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4382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971800" y="3124080"/>
          <a:ext cx="3808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1240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982880" y="150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0548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019920" y="838080"/>
          <a:ext cx="368280" cy="3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8380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6858000" y="1523880"/>
          <a:ext cx="368280" cy="33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1523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5562720" y="2362320"/>
          <a:ext cx="368280" cy="33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3623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6400800" y="2895480"/>
          <a:ext cx="368280" cy="33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00800" y="2895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7924680" y="2590920"/>
          <a:ext cx="368280" cy="33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24680" y="25909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310440" y="72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488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536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680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15200" y="2627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066680"/>
            <a:ext cx="2895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1981080"/>
            <a:ext cx="4876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048120" y="1752480"/>
            <a:ext cx="3809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76720" y="2590920"/>
            <a:ext cx="22860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FINIŢ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ie A şi B două mulţimi. Dacă, printr-un procedeu oarecare, facem ca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oricăru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lemen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din mulţimea 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să-i corespundă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un singur element din mulţime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, vom spune că am definit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funcţie de la A l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: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, y=f(x), oricare ar fi x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Componentele funcţie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=domeniul de defin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domeniul de valori (codomeniul)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=f(x) – legea de coresponden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RAFICUL UNEI FUNCŢI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809440"/>
            <a:ext cx="8229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Fi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: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, y=f(x)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ulţimea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ro-RO" sz="2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{(x,y)/ 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, y=f(x)}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num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şte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raficul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ei 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ficul une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i poate fi reprezentat într-un sistem ortogonal de axe xo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990720"/>
            <a:ext cx="2133360" cy="457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914400"/>
            <a:ext cx="1981080" cy="472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92440" y="17892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8520" y="2319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7200" y="3193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68560" y="42400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080" y="5049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03760" y="29163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84600" y="43340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209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3048120"/>
          <a:ext cx="330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04812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52480" y="4114800"/>
          <a:ext cx="3859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148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424240" y="1676520"/>
          <a:ext cx="387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4240" y="1676520"/>
                    <a:ext cx="387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66880" y="2743200"/>
          <a:ext cx="38592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7432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90920" y="4343400"/>
          <a:ext cx="33156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343400"/>
                    <a:ext cx="3315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029200"/>
          <a:ext cx="33192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5029200"/>
                    <a:ext cx="331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705720" y="1752480"/>
            <a:ext cx="68580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590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419720"/>
            <a:ext cx="5335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657600"/>
            <a:ext cx="990360" cy="380880"/>
          </a:xfrm>
          <a:prstGeom prst="parallelogram">
            <a:avLst>
              <a:gd name="adj" fmla="val 650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514600"/>
            <a:ext cx="4800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4038120"/>
            <a:ext cx="3505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86000" y="2361960"/>
            <a:ext cx="44197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66880" y="4876920"/>
            <a:ext cx="3962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2856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05120"/>
            <a:ext cx="37339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124080"/>
            <a:ext cx="4419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GRAFICUL  UNEI  FUNC</a:t>
            </a:r>
            <a:r>
              <a:rPr b="0" lang="ro-RO" sz="3600" spc="-1" strike="noStrike">
                <a:solidFill>
                  <a:srgbClr val="cc9900"/>
                </a:solidFill>
                <a:latin typeface="Arial"/>
              </a:rPr>
              <a:t>Ţ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066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2960" y="990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62920" y="1447920"/>
          <a:ext cx="55080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1447920"/>
                    <a:ext cx="550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467480" y="2590920"/>
          <a:ext cx="59400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7480" y="2590920"/>
                    <a:ext cx="594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238880" y="3581280"/>
          <a:ext cx="533520" cy="685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3581280"/>
                    <a:ext cx="53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086600" y="4419720"/>
          <a:ext cx="474840" cy="610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6600" y="4419720"/>
                    <a:ext cx="4748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143000" y="5524560"/>
          <a:ext cx="762120" cy="49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5524560"/>
                    <a:ext cx="762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066680" y="6014880"/>
          <a:ext cx="91440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66680" y="6014880"/>
                    <a:ext cx="914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057040" y="5613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ila in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607068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 DE  GRAFICE  DE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81080" y="1752480"/>
            <a:ext cx="1524240" cy="2362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1676520"/>
            <a:ext cx="1371600" cy="2514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670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248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057400"/>
          <a:ext cx="13968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05740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843280" y="3789360"/>
          <a:ext cx="13968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378936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590920" y="3124080"/>
          <a:ext cx="139680" cy="15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312408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629400" y="2057400"/>
          <a:ext cx="127080" cy="1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20574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0" y="2743200"/>
          <a:ext cx="127080" cy="1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7432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629400" y="3581280"/>
          <a:ext cx="127080" cy="12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8128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36412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87880" y="296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744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67280" y="186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9588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0" y="346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1337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3200400"/>
            <a:ext cx="3733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59280" y="2781360"/>
            <a:ext cx="360036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7040" y="5105520"/>
            <a:ext cx="71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048120" y="2973240"/>
          <a:ext cx="1396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324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438280" y="914400"/>
            <a:ext cx="1219320" cy="26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824600">
            <a:off x="4533840" y="1104480"/>
            <a:ext cx="2819160" cy="121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307200">
            <a:off x="5715000" y="3276000"/>
            <a:ext cx="25146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114300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143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819520" y="16765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16765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749680" y="22860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9680" y="2286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971800" y="289548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28954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76212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137160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057400"/>
            <a:ext cx="7596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124080"/>
            <a:ext cx="7632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4038480"/>
            <a:ext cx="7596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29160" y="102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765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548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5520" y="56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1480" y="117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148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6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9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24080" y="838080"/>
            <a:ext cx="2667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76720" y="1523880"/>
            <a:ext cx="259056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828800"/>
            <a:ext cx="358128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438280"/>
            <a:ext cx="41911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1387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4880" y="817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81680" y="3292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3240" y="427032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9560" y="518472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4680" y="6022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6760" y="4724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3080" y="571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609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ţie definită pe B cu valori în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362320" y="838080"/>
            <a:ext cx="1600200" cy="327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12952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71800" y="129528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2952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95480" y="19051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9051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66880" y="25146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5146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200400" y="320040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2004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705720" y="18288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6576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2916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916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577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9920" y="163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96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29000" y="1981080"/>
            <a:ext cx="32004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200040" y="1447920"/>
            <a:ext cx="34290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480" y="2590560"/>
            <a:ext cx="3657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356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1160" y="110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)funcţie definită pe A cu valori în B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(funcţie constant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676520"/>
            <a:ext cx="1600200" cy="350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1143000" cy="3429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388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34480" y="14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4080" y="2855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057400"/>
            <a:ext cx="15228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590920"/>
            <a:ext cx="15264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2670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3526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60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719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666880" y="3276360"/>
            <a:ext cx="3048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86000" y="320004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2666880"/>
            <a:ext cx="3657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2133720"/>
            <a:ext cx="3429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638680" y="2971800"/>
          <a:ext cx="457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45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FUNCŢIA f:A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,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A-mulţime finit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mulţime de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lini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:{-2,0,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,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-2,1);B(0;3);C(1;4); D(2;5);E(3;6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16360" y="1562040"/>
          <a:ext cx="410364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62040"/>
                    <a:ext cx="410364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859280" y="4797360"/>
            <a:ext cx="3816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24360" y="1628280"/>
            <a:ext cx="0" cy="40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472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4365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4365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306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3068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227664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44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45:49Z</dcterms:created>
  <dc:creator>Nicoleta</dc:creator>
  <dc:description/>
  <cp:keywords/>
  <dc:language>en-US</dc:language>
  <cp:lastModifiedBy>xp</cp:lastModifiedBy>
  <dcterms:modified xsi:type="dcterms:W3CDTF">2011-01-05T12:36:17Z</dcterms:modified>
  <cp:revision>8</cp:revision>
  <dc:subject/>
  <dc:title>FUNCŢ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31033</vt:lpwstr>
  </property>
</Properties>
</file>